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D005-3256-4EC1-A6B5-6CD3E0E3D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4B77-D8BB-457A-810E-EE75F9F30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A769-BF51-4AC1-A123-A058B3449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5909-A0FD-4658-BEFE-74E7FBB900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17E6-4D4B-4A91-A616-93505E281A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296C-B8F5-4E78-A475-68AD17A91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E8B9-70BC-48AD-90B8-C1C7BC229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A5C5-5E7D-4A7E-9279-4E6268A8D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3A77-F258-4D0C-9B78-2367FFA86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A14A-A1F9-4CEC-83B6-6A2CAF20E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34DB-D3A1-4A8B-B008-8FD1697CA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70C1-9EA9-49EE-87DF-379B242C3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636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657A-6DC1-476E-B1C1-E880C69F961B}" type="slidenum">
              <a:rPr b="0" lang="ja-JP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D2(2005040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640" y="1000080"/>
            <a:ext cx="7453080" cy="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bu.ac.jp/~tsubokur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790560"/>
            <a:ext cx="77342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ドキュメントデザイン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917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文理大学　坪倉篤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bu.ac.jp/~tsubok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42800" y="1392120"/>
          <a:ext cx="8307000" cy="5413320"/>
        </p:xfrm>
        <a:graphic>
          <a:graphicData uri="http://schemas.openxmlformats.org/drawingml/2006/table">
            <a:tbl>
              <a:tblPr/>
              <a:tblGrid>
                <a:gridCol w="520560"/>
                <a:gridCol w="323640"/>
                <a:gridCol w="3556800"/>
                <a:gridCol w="541080"/>
                <a:gridCol w="336492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: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小テストと解説の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前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リエンテーショ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入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般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マー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開発プロセ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オーサリングツール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インフォメーションアーキテクチ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キュリテ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～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後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まと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onScript(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Per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JavaScrip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AS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/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発表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　後半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-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期末試験：全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68200" y="5089680"/>
            <a:ext cx="8539200" cy="5475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lash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先週の復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ーンに分割したアニメーション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ーンウィンドウ：ウィンドウ→デザインパネル→シー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タンを作ろ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ンプルボタ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ップ、オーバー、ダウン、ヒット、４種類の画像作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タンを押す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ction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ーンとボタンの動作の関連（アニメ付き紙芝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95920" y="723960"/>
            <a:ext cx="857160" cy="3618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ーン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83240" y="720720"/>
            <a:ext cx="857520" cy="3618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ーン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42280" y="717480"/>
            <a:ext cx="1428840" cy="36216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ーン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157880" y="1131840"/>
          <a:ext cx="145260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7880" y="1131840"/>
                    <a:ext cx="1452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7953480" y="2411280"/>
          <a:ext cx="914400" cy="2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3480" y="2411280"/>
                    <a:ext cx="9144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6210360" y="2579760"/>
            <a:ext cx="1799640" cy="346680"/>
            <a:chOff x="6210360" y="2579760"/>
            <a:chExt cx="1799640" cy="346680"/>
          </a:xfrm>
        </p:grpSpPr>
        <p:sp>
          <p:nvSpPr>
            <p:cNvPr id="55" name=""/>
            <p:cNvSpPr/>
            <p:nvPr/>
          </p:nvSpPr>
          <p:spPr>
            <a:xfrm>
              <a:off x="6210360" y="2589120"/>
              <a:ext cx="148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シーンのコピ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7429320" y="2579760"/>
              <a:ext cx="5806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781760" y="2598840"/>
            <a:ext cx="1362240" cy="394560"/>
            <a:chOff x="7781760" y="2598840"/>
            <a:chExt cx="1362240" cy="394560"/>
          </a:xfrm>
        </p:grpSpPr>
        <p:sp>
          <p:nvSpPr>
            <p:cNvPr id="58" name=""/>
            <p:cNvSpPr/>
            <p:nvPr/>
          </p:nvSpPr>
          <p:spPr>
            <a:xfrm>
              <a:off x="7781760" y="2656080"/>
              <a:ext cx="136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シーンの追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162640" y="2598840"/>
              <a:ext cx="21924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596440" y="1844640"/>
            <a:ext cx="318600" cy="703440"/>
            <a:chOff x="8596440" y="1844640"/>
            <a:chExt cx="318600" cy="703440"/>
          </a:xfrm>
        </p:grpSpPr>
        <p:sp>
          <p:nvSpPr>
            <p:cNvPr id="61" name=""/>
            <p:cNvSpPr/>
            <p:nvPr/>
          </p:nvSpPr>
          <p:spPr>
            <a:xfrm>
              <a:off x="8622720" y="2179800"/>
              <a:ext cx="2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596440" y="1844640"/>
              <a:ext cx="0" cy="522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" name=""/>
          <p:cNvGraphicFramePr/>
          <p:nvPr/>
        </p:nvGraphicFramePr>
        <p:xfrm>
          <a:off x="3214800" y="3078000"/>
          <a:ext cx="676080" cy="65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14800" y="3078000"/>
                    <a:ext cx="67608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373800" y="3352680"/>
          <a:ext cx="619200" cy="23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73800" y="3352680"/>
                    <a:ext cx="61920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732640" y="3166920"/>
          <a:ext cx="555480" cy="5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32640" y="3166920"/>
                    <a:ext cx="5554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888080" y="3232080"/>
          <a:ext cx="779400" cy="4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88080" y="3232080"/>
                    <a:ext cx="7794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465360" y="3914640"/>
            <a:ext cx="4667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 (releas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etURL("http://www.nbu.ac.jp","_blank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560" y="5330880"/>
            <a:ext cx="3533400" cy="1239480"/>
            <a:chOff x="25560" y="5330880"/>
            <a:chExt cx="3533400" cy="1239480"/>
          </a:xfrm>
        </p:grpSpPr>
        <p:sp>
          <p:nvSpPr>
            <p:cNvPr id="73" name=""/>
            <p:cNvSpPr/>
            <p:nvPr/>
          </p:nvSpPr>
          <p:spPr>
            <a:xfrm rot="10800000">
              <a:off x="25560" y="6081480"/>
              <a:ext cx="2209680" cy="488880"/>
            </a:xfrm>
            <a:custGeom>
              <a:avLst/>
              <a:gdLst>
                <a:gd name="textAreaLeft" fmla="*/ 386640 w 2209680"/>
                <a:gd name="textAreaRight" fmla="*/ 1602000 w 2209680"/>
                <a:gd name="textAreaTop" fmla="*/ 65520 h 488880"/>
                <a:gd name="textAreaBottom" fmla="*/ 42336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144720" y="6070320"/>
              <a:ext cx="1141560" cy="358560"/>
            </a:xfrm>
            <a:custGeom>
              <a:avLst/>
              <a:gdLst>
                <a:gd name="textAreaLeft" fmla="*/ 199800 w 1141560"/>
                <a:gd name="textAreaRight" fmla="*/ 827640 w 1141560"/>
                <a:gd name="textAreaTop" fmla="*/ 47880 h 358560"/>
                <a:gd name="textAreaBottom" fmla="*/ 31068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76640" y="5371560"/>
              <a:ext cx="3082320" cy="307080"/>
              <a:chOff x="476640" y="5371560"/>
              <a:chExt cx="3082320" cy="307080"/>
            </a:xfrm>
          </p:grpSpPr>
          <p:sp>
            <p:nvSpPr>
              <p:cNvPr id="76" name=""/>
              <p:cNvSpPr/>
              <p:nvPr/>
            </p:nvSpPr>
            <p:spPr>
              <a:xfrm>
                <a:off x="476640" y="5599440"/>
                <a:ext cx="293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346920" y="5371560"/>
                <a:ext cx="212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423720" y="5336280"/>
              <a:ext cx="733680" cy="30960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シーン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97640" y="5333400"/>
              <a:ext cx="733680" cy="3099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シーン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18440" y="5330880"/>
              <a:ext cx="1223280" cy="30996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シーン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063800" y="5625720"/>
              <a:ext cx="274320" cy="570600"/>
              <a:chOff x="1063800" y="5625720"/>
              <a:chExt cx="274320" cy="570600"/>
            </a:xfrm>
          </p:grpSpPr>
          <p:sp>
            <p:nvSpPr>
              <p:cNvPr id="82" name=""/>
              <p:cNvSpPr/>
              <p:nvPr/>
            </p:nvSpPr>
            <p:spPr>
              <a:xfrm>
                <a:off x="1063800" y="5625720"/>
                <a:ext cx="274320" cy="570600"/>
              </a:xfrm>
              <a:custGeom>
                <a:avLst/>
                <a:gdLst/>
                <a:ahLst/>
                <a:rect l="l" t="t" r="r" b="b"/>
                <a:pathLst>
                  <a:path w="202" h="420">
                    <a:moveTo>
                      <a:pt x="8" y="420"/>
                    </a:moveTo>
                    <a:lnTo>
                      <a:pt x="0" y="120"/>
                    </a:lnTo>
                    <a:lnTo>
                      <a:pt x="192" y="0"/>
                    </a:lnTo>
                    <a:lnTo>
                      <a:pt x="202" y="194"/>
                    </a:lnTo>
                    <a:lnTo>
                      <a:pt x="8" y="4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090800" y="5875560"/>
                <a:ext cx="65160" cy="168480"/>
              </a:xfrm>
              <a:custGeom>
                <a:avLst/>
                <a:gdLst/>
                <a:ahLst/>
                <a:rect l="l" t="t" r="r" b="b"/>
                <a:pathLst>
                  <a:path w="44" h="84">
                    <a:moveTo>
                      <a:pt x="44" y="0"/>
                    </a:moveTo>
                    <a:lnTo>
                      <a:pt x="44" y="84"/>
                    </a:lnTo>
                    <a:lnTo>
                      <a:pt x="0" y="8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275480" y="5766840"/>
                <a:ext cx="48960" cy="168480"/>
              </a:xfrm>
              <a:custGeom>
                <a:avLst/>
                <a:gdLst/>
                <a:ahLst/>
                <a:rect l="l" t="t" r="r" b="b"/>
                <a:pathLst>
                  <a:path w="36" h="124">
                    <a:moveTo>
                      <a:pt x="0" y="0"/>
                    </a:moveTo>
                    <a:lnTo>
                      <a:pt x="0" y="124"/>
                    </a:lnTo>
                    <a:lnTo>
                      <a:pt x="36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177560" y="5805000"/>
                <a:ext cx="75960" cy="179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1864080" y="5635440"/>
              <a:ext cx="274320" cy="570600"/>
              <a:chOff x="1864080" y="5635440"/>
              <a:chExt cx="274320" cy="570600"/>
            </a:xfrm>
          </p:grpSpPr>
          <p:sp>
            <p:nvSpPr>
              <p:cNvPr id="87" name=""/>
              <p:cNvSpPr/>
              <p:nvPr/>
            </p:nvSpPr>
            <p:spPr>
              <a:xfrm>
                <a:off x="1864080" y="5635440"/>
                <a:ext cx="274320" cy="570600"/>
              </a:xfrm>
              <a:custGeom>
                <a:avLst/>
                <a:gdLst/>
                <a:ahLst/>
                <a:rect l="l" t="t" r="r" b="b"/>
                <a:pathLst>
                  <a:path w="202" h="420">
                    <a:moveTo>
                      <a:pt x="8" y="420"/>
                    </a:moveTo>
                    <a:lnTo>
                      <a:pt x="0" y="120"/>
                    </a:lnTo>
                    <a:lnTo>
                      <a:pt x="192" y="0"/>
                    </a:lnTo>
                    <a:lnTo>
                      <a:pt x="202" y="194"/>
                    </a:lnTo>
                    <a:lnTo>
                      <a:pt x="8" y="4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91080" y="5885280"/>
                <a:ext cx="65160" cy="168480"/>
              </a:xfrm>
              <a:custGeom>
                <a:avLst/>
                <a:gdLst/>
                <a:ahLst/>
                <a:rect l="l" t="t" r="r" b="b"/>
                <a:pathLst>
                  <a:path w="44" h="84">
                    <a:moveTo>
                      <a:pt x="44" y="0"/>
                    </a:moveTo>
                    <a:lnTo>
                      <a:pt x="44" y="84"/>
                    </a:lnTo>
                    <a:lnTo>
                      <a:pt x="0" y="8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75760" y="5776560"/>
                <a:ext cx="48960" cy="168480"/>
              </a:xfrm>
              <a:custGeom>
                <a:avLst/>
                <a:gdLst/>
                <a:ahLst/>
                <a:rect l="l" t="t" r="r" b="b"/>
                <a:pathLst>
                  <a:path w="36" h="124">
                    <a:moveTo>
                      <a:pt x="0" y="0"/>
                    </a:moveTo>
                    <a:lnTo>
                      <a:pt x="0" y="124"/>
                    </a:lnTo>
                    <a:lnTo>
                      <a:pt x="36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77840" y="5814720"/>
                <a:ext cx="75960" cy="179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55320" y="5635440"/>
              <a:ext cx="274320" cy="570600"/>
              <a:chOff x="355320" y="5635440"/>
              <a:chExt cx="274320" cy="570600"/>
            </a:xfrm>
          </p:grpSpPr>
          <p:sp>
            <p:nvSpPr>
              <p:cNvPr id="92" name=""/>
              <p:cNvSpPr/>
              <p:nvPr/>
            </p:nvSpPr>
            <p:spPr>
              <a:xfrm>
                <a:off x="355320" y="5635440"/>
                <a:ext cx="274320" cy="570600"/>
              </a:xfrm>
              <a:custGeom>
                <a:avLst/>
                <a:gdLst/>
                <a:ahLst/>
                <a:rect l="l" t="t" r="r" b="b"/>
                <a:pathLst>
                  <a:path w="202" h="420">
                    <a:moveTo>
                      <a:pt x="8" y="420"/>
                    </a:moveTo>
                    <a:lnTo>
                      <a:pt x="0" y="120"/>
                    </a:lnTo>
                    <a:lnTo>
                      <a:pt x="192" y="0"/>
                    </a:lnTo>
                    <a:lnTo>
                      <a:pt x="202" y="194"/>
                    </a:lnTo>
                    <a:lnTo>
                      <a:pt x="8" y="4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82320" y="5885280"/>
                <a:ext cx="65160" cy="168480"/>
              </a:xfrm>
              <a:custGeom>
                <a:avLst/>
                <a:gdLst/>
                <a:ahLst/>
                <a:rect l="l" t="t" r="r" b="b"/>
                <a:pathLst>
                  <a:path w="44" h="84">
                    <a:moveTo>
                      <a:pt x="44" y="0"/>
                    </a:moveTo>
                    <a:lnTo>
                      <a:pt x="44" y="84"/>
                    </a:lnTo>
                    <a:lnTo>
                      <a:pt x="0" y="8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67000" y="5776560"/>
                <a:ext cx="48960" cy="168480"/>
              </a:xfrm>
              <a:custGeom>
                <a:avLst/>
                <a:gdLst/>
                <a:ahLst/>
                <a:rect l="l" t="t" r="r" b="b"/>
                <a:pathLst>
                  <a:path w="36" h="124">
                    <a:moveTo>
                      <a:pt x="0" y="0"/>
                    </a:moveTo>
                    <a:lnTo>
                      <a:pt x="0" y="124"/>
                    </a:lnTo>
                    <a:lnTo>
                      <a:pt x="36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9080" y="5814720"/>
                <a:ext cx="75960" cy="179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rot="10800000">
              <a:off x="1104120" y="6099840"/>
              <a:ext cx="758520" cy="212040"/>
            </a:xfrm>
            <a:custGeom>
              <a:avLst/>
              <a:gdLst>
                <a:gd name="textAreaLeft" fmla="*/ 132480 w 758520"/>
                <a:gd name="textAreaRight" fmla="*/ 550080 w 758520"/>
                <a:gd name="textAreaTop" fmla="*/ 28440 h 212040"/>
                <a:gd name="textAreaBottom" fmla="*/ 183600 h 21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0800000">
              <a:off x="334800" y="6096960"/>
              <a:ext cx="758520" cy="212040"/>
            </a:xfrm>
            <a:custGeom>
              <a:avLst/>
              <a:gdLst>
                <a:gd name="textAreaLeft" fmla="*/ 132480 w 758520"/>
                <a:gd name="textAreaRight" fmla="*/ 550080 w 758520"/>
                <a:gd name="textAreaTop" fmla="*/ 28440 h 212040"/>
                <a:gd name="textAreaBottom" fmla="*/ 183600 h 21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8000" y="5627160"/>
              <a:ext cx="897120" cy="130320"/>
            </a:xfrm>
            <a:custGeom>
              <a:avLst/>
              <a:gdLst>
                <a:gd name="textAreaLeft" fmla="*/ 156960 w 897120"/>
                <a:gd name="textAreaRight" fmla="*/ 650520 w 897120"/>
                <a:gd name="textAreaTop" fmla="*/ 17280 h 130320"/>
                <a:gd name="textAreaBottom" fmla="*/ 11304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30200" y="5616000"/>
              <a:ext cx="896760" cy="130680"/>
            </a:xfrm>
            <a:custGeom>
              <a:avLst/>
              <a:gdLst>
                <a:gd name="textAreaLeft" fmla="*/ 156960 w 896760"/>
                <a:gd name="textAreaRight" fmla="*/ 650160 w 896760"/>
                <a:gd name="textAreaTop" fmla="*/ 17280 h 130680"/>
                <a:gd name="textAreaBottom" fmla="*/ 113400 h 1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V="1">
            <a:off x="4210200" y="5270400"/>
            <a:ext cx="367812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848640" y="5324400"/>
            <a:ext cx="13633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534520" y="5307120"/>
            <a:ext cx="71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35320" y="5738760"/>
            <a:ext cx="29937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 (releas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otoAndPlay("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ーン１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",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40480" y="5622840"/>
            <a:ext cx="17035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 (releas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extSce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72080" y="5657760"/>
            <a:ext cx="168588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 (releas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evSce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7559640" y="4264200"/>
            <a:ext cx="12063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制作課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018800"/>
            <a:ext cx="8364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ーマ：ストーリーのあるアニメーション、または紙芝居（アニメーション、アドベンチャーゲーム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必ず、絵コンテを書いてから、制作（絵コンテは要提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ーマ：キノミキノマ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〆切：＊月＊日（第１３回講義）＊＊：＊＊（アンケートの結果次第で調整し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終的な提出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品タイトル、作品概要（２００文字程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ァイル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w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形式）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ファイル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l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形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品集への登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へのアップロー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登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おまけ）パブリッシ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ブリッシュは、制作し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ンテンツ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する場合に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するために必要なファイルを作って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ツ・注意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テージのサイズ：コンテンツのサイズに合わせたステージのサイズにするこ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678720" y="20520"/>
          <a:ext cx="219528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78720" y="20520"/>
                    <a:ext cx="219528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182000" y="1455840"/>
            <a:ext cx="1390680" cy="25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6480" y="1370160"/>
            <a:ext cx="647640" cy="399960"/>
          </a:xfrm>
          <a:prstGeom prst="rightArrow">
            <a:avLst>
              <a:gd name="adj1" fmla="val 42528"/>
              <a:gd name="adj2" fmla="val 745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1920" y="1606680"/>
          <a:ext cx="2428920" cy="26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20" y="1606680"/>
                    <a:ext cx="2428920" cy="2643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201760" y="1652760"/>
          <a:ext cx="2735280" cy="27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1760" y="1652760"/>
                    <a:ext cx="2735280" cy="2787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821120" y="1868400"/>
          <a:ext cx="2417760" cy="268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1868400"/>
                    <a:ext cx="2417760" cy="2684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69160" y="2690640"/>
          <a:ext cx="2212920" cy="217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69160" y="2690640"/>
                    <a:ext cx="2212920" cy="2175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flipV="1">
            <a:off x="7148520" y="2349360"/>
            <a:ext cx="644400" cy="601920"/>
          </a:xfrm>
          <a:custGeom>
            <a:avLst/>
            <a:gdLst>
              <a:gd name="textAreaLeft" fmla="*/ 214920 w 644400"/>
              <a:gd name="textAreaRight" fmla="*/ 551880 w 644400"/>
              <a:gd name="textAreaTop" fmla="*/ 347040 h 601920"/>
              <a:gd name="textAreaBottom" fmla="*/ 515880 h 6019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62960" y="1371600"/>
            <a:ext cx="514440" cy="4300560"/>
          </a:xfrm>
          <a:custGeom>
            <a:avLst/>
            <a:gdLst/>
            <a:ahLst/>
            <a:rect l="l" t="t" r="r" b="b"/>
            <a:pathLst>
              <a:path w="324" h="2532">
                <a:moveTo>
                  <a:pt x="18" y="2532"/>
                </a:moveTo>
                <a:lnTo>
                  <a:pt x="324" y="2532"/>
                </a:lnTo>
                <a:lnTo>
                  <a:pt x="324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47080" y="1176480"/>
            <a:ext cx="1530360" cy="334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提出課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760" y="1018800"/>
            <a:ext cx="857232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日の提出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e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品タイト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品概要（２００字程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完成度（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絵コン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提出してくだ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2:19:04Z</dcterms:created>
  <dc:creator>atlabo</dc:creator>
  <dc:description/>
  <dc:language>en-US</dc:language>
  <cp:lastModifiedBy>atlabo</cp:lastModifiedBy>
  <dcterms:modified xsi:type="dcterms:W3CDTF">2006-08-22T06:07:04Z</dcterms:modified>
  <cp:revision>903</cp:revision>
  <dc:subject/>
  <dc:title>ドキュメントデザイン２</dc:title>
</cp:coreProperties>
</file>