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6C77-B666-43CE-83BC-5A04EC908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F58C-7CE9-4CAB-BDA1-D70C63008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5F20-E540-4E75-B0F0-92F86AE6C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4054-B1F4-4993-BF51-4C78F24B8A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7461-A4F5-4696-A698-DF39BDA859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36D3-419D-4473-9A91-74F1500EB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F00B-C985-4CB4-99E6-E11260D84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8A0A-EEF3-444D-88DE-7DA6133FC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0CB1-29AD-441B-B348-550CC6933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9BD3-1C54-4D3C-88FA-83506F40C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84B0-4550-402C-B159-2CC3202ED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71B6-CFE8-48EE-9E74-BF1033B65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636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C6EA-FB82-48BF-A1D8-A623FCEBEE59}" type="slidenum">
              <a:rPr b="0" lang="ja-JP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D2(2005040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640" y="1000080"/>
            <a:ext cx="7453080" cy="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bu.ac.jp/~tsubokur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790560"/>
            <a:ext cx="77342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ドキュメントデザイン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917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文理大学　坪倉篤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bu.ac.jp/~tsubok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04640" y="1400040"/>
          <a:ext cx="8307360" cy="5413320"/>
        </p:xfrm>
        <a:graphic>
          <a:graphicData uri="http://schemas.openxmlformats.org/drawingml/2006/table">
            <a:tbl>
              <a:tblPr/>
              <a:tblGrid>
                <a:gridCol w="520560"/>
                <a:gridCol w="323640"/>
                <a:gridCol w="3557160"/>
                <a:gridCol w="541080"/>
                <a:gridCol w="336492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: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小テストと解説の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前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リエンテーショ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入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般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マー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開発プロセ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オーサリングツール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インフォメーションアーキテクチ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キュリテ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～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後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まと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onScript(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Per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JavaScri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AS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/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発表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　後半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-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期末試験：全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4440" y="3473280"/>
            <a:ext cx="8539200" cy="547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lash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先週の復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38320" y="1018800"/>
            <a:ext cx="754848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制作につい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レイヤー）、フレーム、タイムライン、キーフレーム、カレントフレー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ニメーションの種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アニメーショ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モーショントゥーインアニメーショ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ェイプトゥイーンアニメーショ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レームアニメーションの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必要スキル　シンボル、インスタンス、オブジェクト、グルー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保存形式につい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cromedia Flas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IF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3360" y="1058760"/>
          <a:ext cx="89712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058760"/>
                    <a:ext cx="897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1876320"/>
            <a:ext cx="1047600" cy="3841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560680"/>
            <a:ext cx="1047600" cy="6476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09760"/>
            <a:ext cx="500040" cy="3985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7560" y="1279440"/>
            <a:ext cx="500040" cy="5796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4680" y="3575160"/>
            <a:ext cx="415800" cy="3492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69840" y="3922560"/>
            <a:ext cx="1047600" cy="29354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315120" y="2031840"/>
            <a:ext cx="2434680" cy="1436400"/>
            <a:chOff x="6315120" y="2031840"/>
            <a:chExt cx="2434680" cy="1436400"/>
          </a:xfrm>
        </p:grpSpPr>
        <p:sp>
          <p:nvSpPr>
            <p:cNvPr id="56" name=""/>
            <p:cNvSpPr/>
            <p:nvPr/>
          </p:nvSpPr>
          <p:spPr>
            <a:xfrm flipV="1">
              <a:off x="6387120" y="2742840"/>
              <a:ext cx="2362680" cy="60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18200" y="2031840"/>
              <a:ext cx="650880" cy="106272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11680" y="2127960"/>
              <a:ext cx="650880" cy="106272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81400" y="2297160"/>
              <a:ext cx="650880" cy="106272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15120" y="2405520"/>
              <a:ext cx="650880" cy="106272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07720" y="2671200"/>
              <a:ext cx="241200" cy="4219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06840" y="2562480"/>
              <a:ext cx="241200" cy="422280"/>
            </a:xfrm>
            <a:prstGeom prst="smileyFace">
              <a:avLst>
                <a:gd name="adj" fmla="val -4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01120" y="2586600"/>
              <a:ext cx="240840" cy="4219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19520" y="2260800"/>
              <a:ext cx="240840" cy="422280"/>
            </a:xfrm>
            <a:prstGeom prst="smileyFace">
              <a:avLst>
                <a:gd name="adj" fmla="val -4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272280" y="4005360"/>
            <a:ext cx="2566440" cy="961920"/>
            <a:chOff x="6272280" y="4005360"/>
            <a:chExt cx="2566440" cy="961920"/>
          </a:xfrm>
        </p:grpSpPr>
        <p:grpSp>
          <p:nvGrpSpPr>
            <p:cNvPr id="66" name=""/>
            <p:cNvGrpSpPr/>
            <p:nvPr/>
          </p:nvGrpSpPr>
          <p:grpSpPr>
            <a:xfrm>
              <a:off x="6272280" y="4014720"/>
              <a:ext cx="1193760" cy="952560"/>
              <a:chOff x="6272280" y="4014720"/>
              <a:chExt cx="1193760" cy="952560"/>
            </a:xfrm>
          </p:grpSpPr>
          <p:sp>
            <p:nvSpPr>
              <p:cNvPr id="67" name=""/>
              <p:cNvSpPr/>
              <p:nvPr/>
            </p:nvSpPr>
            <p:spPr>
              <a:xfrm>
                <a:off x="6272280" y="401472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99360" y="4510080"/>
                <a:ext cx="469800" cy="4060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6576840" y="4471560"/>
                <a:ext cx="5716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72280" y="401472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99360" y="4510080"/>
                <a:ext cx="469800" cy="4060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6576840" y="4471560"/>
                <a:ext cx="5716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645320" y="4005360"/>
              <a:ext cx="1193400" cy="952560"/>
              <a:chOff x="7645320" y="4005360"/>
              <a:chExt cx="1193400" cy="952560"/>
            </a:xfrm>
          </p:grpSpPr>
          <p:sp>
            <p:nvSpPr>
              <p:cNvPr id="74" name=""/>
              <p:cNvSpPr/>
              <p:nvPr/>
            </p:nvSpPr>
            <p:spPr>
              <a:xfrm>
                <a:off x="7645320" y="4005360"/>
                <a:ext cx="119340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292600" y="4170240"/>
                <a:ext cx="469440" cy="406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8064000" y="4360680"/>
                <a:ext cx="469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45320" y="4005360"/>
                <a:ext cx="119340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292600" y="4170240"/>
                <a:ext cx="469440" cy="406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064000" y="4360680"/>
                <a:ext cx="469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369200" y="4319640"/>
              <a:ext cx="424800" cy="407880"/>
            </a:xfrm>
            <a:prstGeom prst="rightArrow">
              <a:avLst>
                <a:gd name="adj1" fmla="val 33852"/>
                <a:gd name="adj2" fmla="val 5790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296040" y="5194440"/>
            <a:ext cx="2520720" cy="850680"/>
            <a:chOff x="6296040" y="5194440"/>
            <a:chExt cx="2520720" cy="850680"/>
          </a:xfrm>
        </p:grpSpPr>
        <p:grpSp>
          <p:nvGrpSpPr>
            <p:cNvPr id="82" name=""/>
            <p:cNvGrpSpPr/>
            <p:nvPr/>
          </p:nvGrpSpPr>
          <p:grpSpPr>
            <a:xfrm>
              <a:off x="6296040" y="5194440"/>
              <a:ext cx="1168920" cy="820800"/>
              <a:chOff x="6296040" y="5194440"/>
              <a:chExt cx="1168920" cy="820800"/>
            </a:xfrm>
          </p:grpSpPr>
          <p:sp>
            <p:nvSpPr>
              <p:cNvPr id="83" name=""/>
              <p:cNvSpPr/>
              <p:nvPr/>
            </p:nvSpPr>
            <p:spPr>
              <a:xfrm>
                <a:off x="6296040" y="5194440"/>
                <a:ext cx="1168920" cy="820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621840" y="5362920"/>
                <a:ext cx="550800" cy="44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71480" y="525024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71480" y="575640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475680" y="574524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75680" y="523908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6599160" y="5250240"/>
                <a:ext cx="20196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17640" y="5351760"/>
                <a:ext cx="7848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6992280" y="5869080"/>
                <a:ext cx="15732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6520320" y="5655240"/>
                <a:ext cx="5616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96040" y="5194440"/>
                <a:ext cx="1168920" cy="820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1840" y="5362920"/>
                <a:ext cx="550800" cy="44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71480" y="525024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071480" y="575640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475680" y="574524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475680" y="5239080"/>
                <a:ext cx="25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6599160" y="5250240"/>
                <a:ext cx="20196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17640" y="5351760"/>
                <a:ext cx="7848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6992280" y="5869080"/>
                <a:ext cx="15732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6520320" y="5655240"/>
                <a:ext cx="5616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647840" y="5194440"/>
              <a:ext cx="1168920" cy="850680"/>
              <a:chOff x="7647840" y="5194440"/>
              <a:chExt cx="1168920" cy="850680"/>
            </a:xfrm>
          </p:grpSpPr>
          <p:sp>
            <p:nvSpPr>
              <p:cNvPr id="104" name=""/>
              <p:cNvSpPr/>
              <p:nvPr/>
            </p:nvSpPr>
            <p:spPr>
              <a:xfrm>
                <a:off x="7647840" y="5194440"/>
                <a:ext cx="1168920" cy="820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085960" y="5396760"/>
                <a:ext cx="460800" cy="47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187480" y="526320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444520" y="5532840"/>
                <a:ext cx="259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87480" y="581256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17480" y="554256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119800" y="5295240"/>
                <a:ext cx="21312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8614440" y="5463720"/>
                <a:ext cx="44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8332920" y="5913360"/>
                <a:ext cx="21348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7985160" y="5644080"/>
                <a:ext cx="5580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47840" y="5194440"/>
                <a:ext cx="1168920" cy="820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085960" y="5396760"/>
                <a:ext cx="460800" cy="47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187480" y="526320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44520" y="5532840"/>
                <a:ext cx="259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87480" y="5814000"/>
                <a:ext cx="25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917480" y="5544360"/>
                <a:ext cx="25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19800" y="5295240"/>
                <a:ext cx="21312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8614440" y="5463720"/>
                <a:ext cx="44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8332920" y="5913360"/>
                <a:ext cx="21348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7985160" y="5644080"/>
                <a:ext cx="5580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7382160" y="5483880"/>
              <a:ext cx="376560" cy="361080"/>
            </a:xfrm>
            <a:prstGeom prst="rightArrow">
              <a:avLst>
                <a:gd name="adj1" fmla="val 33852"/>
                <a:gd name="adj2" fmla="val 57981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ニメーションの前に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160" y="1018800"/>
            <a:ext cx="896148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の制作手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フレームにお絵かき（シンボル化するこ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フレームの追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追加したキーフレームの映像を変形、または新たにお絵か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レームアニメーションの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必要スキル　シンボル、インスタンス、オブジェクト、グルー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ンボルについ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スタンスについ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ニメーションの制作手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じめ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紙の上でキャラクターの設計を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紙の上で動きの設計を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各種パーツへの分解を考え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の描画の準備を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フレームにお絵か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種パーツを作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</a:rPr>
              <a:t>シンボル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ライブラリーに登録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フレームを作り、インスタンス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ライブラリーに登録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用いパーツの配置と調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. 2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戻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811920" y="2584440"/>
            <a:ext cx="2119320" cy="2905920"/>
            <a:chOff x="6811920" y="2584440"/>
            <a:chExt cx="2119320" cy="2905920"/>
          </a:xfrm>
        </p:grpSpPr>
        <p:grpSp>
          <p:nvGrpSpPr>
            <p:cNvPr id="128" name=""/>
            <p:cNvGrpSpPr/>
            <p:nvPr/>
          </p:nvGrpSpPr>
          <p:grpSpPr>
            <a:xfrm>
              <a:off x="6894360" y="2584440"/>
              <a:ext cx="2020680" cy="2609640"/>
              <a:chOff x="6894360" y="2584440"/>
              <a:chExt cx="2020680" cy="2609640"/>
            </a:xfrm>
          </p:grpSpPr>
          <p:sp>
            <p:nvSpPr>
              <p:cNvPr id="129" name=""/>
              <p:cNvSpPr/>
              <p:nvPr/>
            </p:nvSpPr>
            <p:spPr>
              <a:xfrm>
                <a:off x="6894360" y="2584440"/>
                <a:ext cx="2020680" cy="260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6963840" y="2671560"/>
                <a:ext cx="863280" cy="2457360"/>
                <a:chOff x="6963840" y="2671560"/>
                <a:chExt cx="863280" cy="2457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981120" y="2671560"/>
                  <a:ext cx="84600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977160" y="3300480"/>
                  <a:ext cx="84600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977160" y="3922920"/>
                  <a:ext cx="846000" cy="58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63840" y="4544280"/>
                  <a:ext cx="84600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894080" y="2805120"/>
                <a:ext cx="891360" cy="414360"/>
                <a:chOff x="7894080" y="2805120"/>
                <a:chExt cx="891360" cy="4143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898400" y="280512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94080" y="294624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894080" y="308772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900200" y="3219480"/>
                  <a:ext cx="885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909920" y="3402000"/>
                <a:ext cx="892080" cy="414360"/>
                <a:chOff x="7909920" y="3402000"/>
                <a:chExt cx="892080" cy="4143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914600" y="3402000"/>
                  <a:ext cx="88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09920" y="3543120"/>
                  <a:ext cx="88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909920" y="3684600"/>
                  <a:ext cx="88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916400" y="381636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906680" y="4037040"/>
                <a:ext cx="892080" cy="414360"/>
                <a:chOff x="7906680" y="4037040"/>
                <a:chExt cx="892080" cy="4143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911360" y="4037040"/>
                  <a:ext cx="88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906680" y="4178160"/>
                  <a:ext cx="88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906680" y="4319640"/>
                  <a:ext cx="88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13160" y="445140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894080" y="4643280"/>
                <a:ext cx="891360" cy="414360"/>
                <a:chOff x="7894080" y="4643280"/>
                <a:chExt cx="891360" cy="4143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898400" y="464328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894080" y="478440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894080" y="4925880"/>
                  <a:ext cx="88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00200" y="5057640"/>
                  <a:ext cx="885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6811920" y="5183280"/>
              <a:ext cx="21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イメージボード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絵コン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Flash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アニメーション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2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キャラクターを移動させよう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ショントゥーインアニメ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平行移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制作練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キーフレームにオブジェクトの描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お絵かき　：　（まずは基本図形の□、△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絵をシンボル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ーツ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タイプ：ムービークリッ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キーフレームの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追加したキーフレームの画像の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位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変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イムラインのフレームを選択→プロパティ、トゥイーンをモー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練習１：基本的な図形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□等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ステージ上を飛び回るアニメーションを作り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ージ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初期値：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調整値：イ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-100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アウ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練習２：練習１のアニメーションでイージングを試し、イージングについて調べな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934240" y="863640"/>
            <a:ext cx="3043800" cy="1140120"/>
            <a:chOff x="5934240" y="863640"/>
            <a:chExt cx="3043800" cy="1140120"/>
          </a:xfrm>
        </p:grpSpPr>
        <p:grpSp>
          <p:nvGrpSpPr>
            <p:cNvPr id="159" name=""/>
            <p:cNvGrpSpPr/>
            <p:nvPr/>
          </p:nvGrpSpPr>
          <p:grpSpPr>
            <a:xfrm>
              <a:off x="5934240" y="874440"/>
              <a:ext cx="1415520" cy="1129320"/>
              <a:chOff x="5934240" y="874440"/>
              <a:chExt cx="1415520" cy="1129320"/>
            </a:xfrm>
          </p:grpSpPr>
          <p:sp>
            <p:nvSpPr>
              <p:cNvPr id="160" name=""/>
              <p:cNvSpPr/>
              <p:nvPr/>
            </p:nvSpPr>
            <p:spPr>
              <a:xfrm>
                <a:off x="5934240" y="874440"/>
                <a:ext cx="1415520" cy="1129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84720" y="1461600"/>
                <a:ext cx="556920" cy="48132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6295320" y="1416600"/>
                <a:ext cx="677880" cy="30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34240" y="874440"/>
                <a:ext cx="1415520" cy="1129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84720" y="1461600"/>
                <a:ext cx="556920" cy="48132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6295320" y="1416600"/>
                <a:ext cx="677880" cy="30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7562880" y="863640"/>
              <a:ext cx="1415160" cy="1129320"/>
              <a:chOff x="7562880" y="863640"/>
              <a:chExt cx="1415160" cy="1129320"/>
            </a:xfrm>
          </p:grpSpPr>
          <p:sp>
            <p:nvSpPr>
              <p:cNvPr id="167" name=""/>
              <p:cNvSpPr/>
              <p:nvPr/>
            </p:nvSpPr>
            <p:spPr>
              <a:xfrm>
                <a:off x="7562880" y="863640"/>
                <a:ext cx="1415160" cy="1129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30760" y="1059120"/>
                <a:ext cx="556920" cy="4816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8059680" y="1284840"/>
                <a:ext cx="55692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562880" y="863640"/>
                <a:ext cx="1415160" cy="1129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330760" y="1059120"/>
                <a:ext cx="556920" cy="4816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8059680" y="1284840"/>
                <a:ext cx="55692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7235280" y="1236240"/>
              <a:ext cx="504000" cy="483840"/>
            </a:xfrm>
            <a:prstGeom prst="rightArrow">
              <a:avLst>
                <a:gd name="adj1" fmla="val 33852"/>
                <a:gd name="adj2" fmla="val 5791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211720" y="4386240"/>
            <a:ext cx="2462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Flash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アニメーション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2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キャラクターを移動させよう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ショントゥーインアニメ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018800"/>
            <a:ext cx="842796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由変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キーフレームにオブジェクトの描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お絵かき　：　（まずは基本図形の□、△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絵をシンボル化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パーツ化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タイプ：ムービークリ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キーフレームの追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追加したキーフレームの画像の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形状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自由変形ツールで変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タイムラインのフレームを選択→プロパティ、トゥイーンをモーショ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練習３：練習１又は２のアニメーションで自由変形を試しな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回転移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上記手順と同じ、異なるのは３のみ。３の項目を下記の２種類の方法で制作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法１　自由変形ツールで回転して設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法２　プロパティの回転パラメータの変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練習４ ： 練習１又は２のアニメーションで自由変形を試しな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ニオンスキ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ニオンスキンを用いると、フレーム間での映像を確認できます。様々な表示ができるので、うまく活用してくだ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19320" y="5513400"/>
          <a:ext cx="247356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9320" y="5513400"/>
                    <a:ext cx="2473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239760" y="2630520"/>
            <a:ext cx="689040" cy="2292480"/>
            <a:chOff x="239760" y="2630520"/>
            <a:chExt cx="689040" cy="2292480"/>
          </a:xfrm>
        </p:grpSpPr>
        <p:sp>
          <p:nvSpPr>
            <p:cNvPr id="180" name=""/>
            <p:cNvSpPr/>
            <p:nvPr/>
          </p:nvSpPr>
          <p:spPr>
            <a:xfrm>
              <a:off x="239760" y="2630520"/>
              <a:ext cx="689040" cy="1987560"/>
            </a:xfrm>
            <a:custGeom>
              <a:avLst/>
              <a:gdLst/>
              <a:ahLst/>
              <a:rect l="l" t="t" r="r" b="b"/>
              <a:pathLst>
                <a:path w="434" h="1252">
                  <a:moveTo>
                    <a:pt x="434" y="0"/>
                  </a:moveTo>
                  <a:lnTo>
                    <a:pt x="0" y="1"/>
                  </a:lnTo>
                  <a:lnTo>
                    <a:pt x="0" y="1252"/>
                  </a:lnTo>
                  <a:lnTo>
                    <a:pt x="269" y="1252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6440" y="4334040"/>
              <a:ext cx="237960" cy="588960"/>
            </a:xfrm>
            <a:custGeom>
              <a:avLst/>
              <a:gdLst>
                <a:gd name="textAreaLeft" fmla="*/ 151920 w 237960"/>
                <a:gd name="textAreaRight" fmla="*/ 238320 w 237960"/>
                <a:gd name="textAreaTop" fmla="*/ 15120 h 588960"/>
                <a:gd name="textAreaBottom" fmla="*/ 573840 h 58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66400" y="1018800"/>
            <a:ext cx="841212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課題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モーショントゥーインアニメーションを用いて、下記のテーマにそってアニメーションを作り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ーマ：跳ねるボ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大前提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１レイヤーに１モーションしか描画でき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のモーションを定義する場合は動作毎に専用のレイヤーを用意してくだ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課題２：テーマ：キノミキノママ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（自由に跳ねるボール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保存：自分の記録用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標準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提出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ファイル」→「書き出し」→「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ムービー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書き出し」→「アニメーショ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形式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</a:rPr>
              <a:t>ファイル名　学籍番号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</a:rPr>
              <a:t>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2:19:04Z</dcterms:created>
  <dc:creator>atlabo</dc:creator>
  <dc:description/>
  <dc:language>en-US</dc:language>
  <cp:lastModifiedBy>atlabo</cp:lastModifiedBy>
  <dcterms:modified xsi:type="dcterms:W3CDTF">2006-08-22T06:04:38Z</dcterms:modified>
  <cp:revision>504</cp:revision>
  <dc:subject/>
  <dc:title>ドキュメントデザイン２</dc:title>
</cp:coreProperties>
</file>