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png" ContentType="image/png"/>
  <Override PartName="/ppt/media/image8.png" ContentType="image/png"/>
  <Override PartName="/ppt/media/image4.png" ContentType="image/png"/>
  <Override PartName="/ppt/media/image1.gif" ContentType="image/gif"/>
  <Override PartName="/ppt/media/image12.png" ContentType="image/png"/>
  <Override PartName="/ppt/media/image7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5.png" ContentType="image/png"/>
  <Override PartName="/ppt/media/image2.gif" ContentType="image/gif"/>
  <Override PartName="/ppt/media/image10.wmf" ContentType="image/x-wmf"/>
  <Override PartName="/ppt/media/image11.png" ContentType="image/png"/>
  <Override PartName="/ppt/media/image3.gif" ContentType="image/gi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CA0A-768B-426A-BF7A-245AD0050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6872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CA32-6AFD-46AD-A456-557DE2D7B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779D-8266-4B25-93AB-2F1E39A93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B17F-C48F-40D0-B345-52EA382270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9206-D55F-4B5C-B335-442AD9AD23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41FE-E887-45A5-A192-323DF5EAD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AA9FC-0585-4646-919C-A179F5EB9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ED9A-EE4E-4AA3-82E1-B115B36F9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656A-5C9A-4DAB-A4E8-AA33B2883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F45D-665D-4541-BCC8-11163B1AE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EB43-0E7E-47FE-B16D-3598495CC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D5E8-B910-4BC9-8EBC-54DCC0653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1636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E43C-6683-4711-83B1-EC393D87537E}" type="slidenum">
              <a:rPr b="0" lang="ja-JP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D2(2005040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640" y="1000080"/>
            <a:ext cx="7453080" cy="0"/>
          </a:xfrm>
          <a:prstGeom prst="line">
            <a:avLst/>
          </a:prstGeom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bu.ac.jp/~tsubokura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790560"/>
            <a:ext cx="77342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ドキュメントデザイン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9176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文理大学　坪倉篤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bu.ac.jp/~tsubok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42800" y="1392120"/>
          <a:ext cx="8307000" cy="5413320"/>
        </p:xfrm>
        <a:graphic>
          <a:graphicData uri="http://schemas.openxmlformats.org/drawingml/2006/table">
            <a:tbl>
              <a:tblPr/>
              <a:tblGrid>
                <a:gridCol w="520560"/>
                <a:gridCol w="323640"/>
                <a:gridCol w="3556800"/>
                <a:gridCol w="541080"/>
                <a:gridCol w="336492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: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小テストと解説の範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前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オリエンテーショ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入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般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マー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開発プロセ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-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オーサリングツール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インフォメーションアーキテクチャ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キュリティ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：範囲 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～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-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後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まと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-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onScript(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ンタラクティブコンテンツ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Per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JavaScrip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AS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/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発表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：範囲　後半 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-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-8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期末試験：全範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68200" y="4756320"/>
            <a:ext cx="8539200" cy="5475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lash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先週の復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2080" y="1018800"/>
            <a:ext cx="842472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ニメー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複数のレイヤーを用いたアニメーショ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マスクレイヤ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マスクレイヤーを用いたアニメーショ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ラーエフェク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フェードイン、フェードアウト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日の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ーンに分割したアニメーション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タン素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タンにアニメーショ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タン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リンク（ビヘイビア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ActionScrip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タンとアニメーション制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パブリッシ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743880" y="-133200"/>
            <a:ext cx="2323800" cy="1536120"/>
            <a:chOff x="6743880" y="-133200"/>
            <a:chExt cx="2323800" cy="1536120"/>
          </a:xfrm>
        </p:grpSpPr>
        <p:grpSp>
          <p:nvGrpSpPr>
            <p:cNvPr id="48" name=""/>
            <p:cNvGrpSpPr/>
            <p:nvPr/>
          </p:nvGrpSpPr>
          <p:grpSpPr>
            <a:xfrm>
              <a:off x="6743880" y="507960"/>
              <a:ext cx="2323800" cy="894960"/>
              <a:chOff x="6743880" y="507960"/>
              <a:chExt cx="2323800" cy="894960"/>
            </a:xfrm>
          </p:grpSpPr>
          <p:sp>
            <p:nvSpPr>
              <p:cNvPr id="49" name=""/>
              <p:cNvSpPr/>
              <p:nvPr/>
            </p:nvSpPr>
            <p:spPr>
              <a:xfrm>
                <a:off x="6743880" y="507960"/>
                <a:ext cx="2323800" cy="894960"/>
              </a:xfrm>
              <a:custGeom>
                <a:avLst/>
                <a:gdLst/>
                <a:ahLst/>
                <a:rect l="l" t="t" r="r" b="b"/>
                <a:pathLst>
                  <a:path w="1992" h="1032">
                    <a:moveTo>
                      <a:pt x="792" y="0"/>
                    </a:moveTo>
                    <a:lnTo>
                      <a:pt x="0" y="588"/>
                    </a:lnTo>
                    <a:lnTo>
                      <a:pt x="1188" y="1032"/>
                    </a:lnTo>
                    <a:lnTo>
                      <a:pt x="1992" y="408"/>
                    </a:lnTo>
                    <a:lnTo>
                      <a:pt x="7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209000">
                <a:off x="7076520" y="859680"/>
                <a:ext cx="68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743880" y="190440"/>
              <a:ext cx="2323800" cy="982800"/>
              <a:chOff x="6743880" y="190440"/>
              <a:chExt cx="2323800" cy="982800"/>
            </a:xfrm>
          </p:grpSpPr>
          <p:sp>
            <p:nvSpPr>
              <p:cNvPr id="52" name=""/>
              <p:cNvSpPr/>
              <p:nvPr/>
            </p:nvSpPr>
            <p:spPr>
              <a:xfrm>
                <a:off x="6743880" y="190440"/>
                <a:ext cx="2323800" cy="894960"/>
              </a:xfrm>
              <a:custGeom>
                <a:avLst/>
                <a:gdLst/>
                <a:ahLst/>
                <a:rect l="l" t="t" r="r" b="b"/>
                <a:pathLst>
                  <a:path w="1992" h="1032">
                    <a:moveTo>
                      <a:pt x="792" y="0"/>
                    </a:moveTo>
                    <a:lnTo>
                      <a:pt x="0" y="588"/>
                    </a:lnTo>
                    <a:lnTo>
                      <a:pt x="1188" y="1032"/>
                    </a:lnTo>
                    <a:lnTo>
                      <a:pt x="1992" y="408"/>
                    </a:lnTo>
                    <a:lnTo>
                      <a:pt x="7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944400">
                <a:off x="7041240" y="631080"/>
                <a:ext cx="133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登場人物</a:t>
                </a: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6743880" y="-133200"/>
              <a:ext cx="2323800" cy="984240"/>
              <a:chOff x="6743880" y="-133200"/>
              <a:chExt cx="2323800" cy="984240"/>
            </a:xfrm>
          </p:grpSpPr>
          <p:sp>
            <p:nvSpPr>
              <p:cNvPr id="55" name=""/>
              <p:cNvSpPr/>
              <p:nvPr/>
            </p:nvSpPr>
            <p:spPr>
              <a:xfrm>
                <a:off x="6743880" y="-133200"/>
                <a:ext cx="2323800" cy="894960"/>
              </a:xfrm>
              <a:custGeom>
                <a:avLst/>
                <a:gdLst/>
                <a:ahLst/>
                <a:rect l="l" t="t" r="r" b="b"/>
                <a:pathLst>
                  <a:path w="1992" h="1032">
                    <a:moveTo>
                      <a:pt x="792" y="0"/>
                    </a:moveTo>
                    <a:lnTo>
                      <a:pt x="0" y="588"/>
                    </a:lnTo>
                    <a:lnTo>
                      <a:pt x="1188" y="1032"/>
                    </a:lnTo>
                    <a:lnTo>
                      <a:pt x="1992" y="408"/>
                    </a:lnTo>
                    <a:lnTo>
                      <a:pt x="7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881400">
                <a:off x="7035120" y="320040"/>
                <a:ext cx="132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登場人物</a:t>
                </a: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97600" y="1473120"/>
            <a:ext cx="2113200" cy="781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83280" y="2108160"/>
            <a:ext cx="3060720" cy="1190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219800" y="3301920"/>
            <a:ext cx="11430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シーンに分割したアニメーション制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8864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映像制作においては、シーンに区切って制作、撮影し、最後にシーンをつなぎ、１つの作品としてまとめ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もシーンの概念があり、ここではシーンについて解説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ーン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各アニメーション等の場面ごとに区切った映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ーンウィンドウ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ウィンドウ→デザインパネル→シー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再生されるシーンの順番：上から下へ順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ーンの順番の調整：シーンを選択し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rag&amp;D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全てのシーンの再生：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制御」→「全てのシーンを再生」にチェッ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95920" y="723960"/>
            <a:ext cx="857160" cy="36180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シーン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83240" y="720720"/>
            <a:ext cx="857520" cy="3618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シーン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42280" y="717480"/>
            <a:ext cx="1428840" cy="36216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シーン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591240" y="2971800"/>
          <a:ext cx="2095560" cy="19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1240" y="2971800"/>
                    <a:ext cx="209556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8029440" y="4851360"/>
          <a:ext cx="914400" cy="24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29440" y="4851360"/>
                    <a:ext cx="91440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" name=""/>
          <p:cNvGrpSpPr/>
          <p:nvPr/>
        </p:nvGrpSpPr>
        <p:grpSpPr>
          <a:xfrm>
            <a:off x="6286680" y="5019840"/>
            <a:ext cx="1799640" cy="346680"/>
            <a:chOff x="6286680" y="5019840"/>
            <a:chExt cx="1799640" cy="346680"/>
          </a:xfrm>
        </p:grpSpPr>
        <p:sp>
          <p:nvSpPr>
            <p:cNvPr id="70" name=""/>
            <p:cNvSpPr/>
            <p:nvPr/>
          </p:nvSpPr>
          <p:spPr>
            <a:xfrm>
              <a:off x="6286680" y="5029200"/>
              <a:ext cx="148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シーンのコピ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7505640" y="5019840"/>
              <a:ext cx="5806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858080" y="5038560"/>
            <a:ext cx="1362240" cy="394560"/>
            <a:chOff x="7858080" y="5038560"/>
            <a:chExt cx="1362240" cy="394560"/>
          </a:xfrm>
        </p:grpSpPr>
        <p:sp>
          <p:nvSpPr>
            <p:cNvPr id="73" name=""/>
            <p:cNvSpPr/>
            <p:nvPr/>
          </p:nvSpPr>
          <p:spPr>
            <a:xfrm>
              <a:off x="7858080" y="5095800"/>
              <a:ext cx="136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シーンの追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8238960" y="5038560"/>
              <a:ext cx="21924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8648640" y="3962520"/>
            <a:ext cx="343080" cy="892080"/>
            <a:chOff x="8648640" y="3962520"/>
            <a:chExt cx="343080" cy="892080"/>
          </a:xfrm>
        </p:grpSpPr>
        <p:sp>
          <p:nvSpPr>
            <p:cNvPr id="76" name=""/>
            <p:cNvSpPr/>
            <p:nvPr/>
          </p:nvSpPr>
          <p:spPr>
            <a:xfrm>
              <a:off x="8677080" y="4486320"/>
              <a:ext cx="31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648640" y="3962520"/>
              <a:ext cx="0" cy="81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ボタンを作ろ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シンプルボタ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18800"/>
            <a:ext cx="8686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マウスで選択できるボタンをココでは作ります。ここでの制作では、ボタンの動作それぞれに割り当てる画像を制作し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必要スキル：シンボ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作る画像の種類：アッ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常状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オーバー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重ねた時）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ダウ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押したとき）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ヒッ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選択可能範囲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制作手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アッ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」の画像の制作→シンボル化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シンボル化（タイプは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「ボタン」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選択するこ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シンボルの編集：シンボルの編集ボタン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シンボルのダブルクリック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右クリック→編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オーバー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」にキーフレームを追加 → オーバーの状態の画像を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ダウ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」にキーフレームを追加 → ダウンの状態の画像を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ヒッ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」にキーフレームを追加 → ボタンが反応する範囲を描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動作の確認：制御→シンプルボタン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制御→ムービーのプレビュ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練習１：シンプルボタンを作りなさ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ス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：ヒットの範囲等を変化させ、様々なボタンを作り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686640" y="2529000"/>
            <a:ext cx="2114640" cy="819720"/>
            <a:chOff x="6686640" y="2529000"/>
            <a:chExt cx="2114640" cy="819720"/>
          </a:xfrm>
        </p:grpSpPr>
        <p:graphicFrame>
          <p:nvGraphicFramePr>
            <p:cNvPr id="81" name=""/>
            <p:cNvGraphicFramePr/>
            <p:nvPr/>
          </p:nvGraphicFramePr>
          <p:xfrm>
            <a:off x="7131240" y="2529000"/>
            <a:ext cx="977760" cy="48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31240" y="2529000"/>
                      <a:ext cx="977760" cy="48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7429680" y="2535120"/>
              <a:ext cx="495360" cy="476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86640" y="3011400"/>
              <a:ext cx="211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シンボルの編集ボタ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5" name=""/>
          <p:cNvGraphicFramePr/>
          <p:nvPr/>
        </p:nvGraphicFramePr>
        <p:xfrm>
          <a:off x="8524800" y="5873760"/>
          <a:ext cx="619200" cy="23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24800" y="5873760"/>
                    <a:ext cx="61920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229600" y="5194440"/>
          <a:ext cx="555480" cy="56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5194440"/>
                    <a:ext cx="55548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7583400" y="5829480"/>
          <a:ext cx="77940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83400" y="5829480"/>
                    <a:ext cx="7794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056280" y="311040"/>
          <a:ext cx="67644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56280" y="311040"/>
                    <a:ext cx="67644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ボタンを押す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</a:t>
            </a:r>
            <a:br>
              <a:rPr sz="28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ActionScrip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入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ライブラリーの利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018800"/>
            <a:ext cx="91440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こでは画面上に配置したボタンを押すと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移動するボタンの制作を行います。ここでは既に用意されているボタン素材を利用し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素材：サンプルライブラリ（ボタ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制作手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ステージ上のボタンインスタンスの選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クションスクリプトウィンドウの表示：「ウィンドウ」→「開発パネル」→「アクション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方法１：直接スクリプトの記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方法２：「＋」→コードの選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練習２：ボタンを幾つか配置し、リンク集を作り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ス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以外を試しなさい　↓リファレンス等を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56280" y="311040"/>
          <a:ext cx="676440" cy="6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311040"/>
                    <a:ext cx="67644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972480" y="469800"/>
          <a:ext cx="156204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72480" y="469800"/>
                    <a:ext cx="1562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095720" y="3265560"/>
            <a:ext cx="4667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n (releas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etURL("http://www.nbu.ac.jp","_blank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5243400"/>
          <a:ext cx="4329000" cy="171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243400"/>
                    <a:ext cx="432900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790640" y="5905440"/>
            <a:ext cx="2495520" cy="628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38320" y="6588000"/>
            <a:ext cx="246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スクリプトの入力ウィンド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04960" y="5610240"/>
            <a:ext cx="324000" cy="190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9920" y="5207040"/>
            <a:ext cx="3038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スクリプトに対し、アイテムの追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09880" y="6534000"/>
            <a:ext cx="133200" cy="16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596600" y="5492520"/>
            <a:ext cx="10476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52920" y="53611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リファレンス：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ttp://www.macromedia.com/support/documentation/jp/flas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ttp://www.1art.jp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15240" y="40384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ベントハンド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0800000">
            <a:off x="5016600" y="2095200"/>
            <a:ext cx="2581200" cy="571320"/>
          </a:xfrm>
          <a:custGeom>
            <a:avLst/>
            <a:gdLst>
              <a:gd name="textAreaLeft" fmla="*/ 451440 w 2581200"/>
              <a:gd name="textAreaRight" fmla="*/ 1871280 w 258120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156280" y="2082960"/>
            <a:ext cx="1333440" cy="419040"/>
          </a:xfrm>
          <a:custGeom>
            <a:avLst/>
            <a:gdLst>
              <a:gd name="textAreaLeft" fmla="*/ 233280 w 1333440"/>
              <a:gd name="textAreaRight" fmla="*/ 966960 w 133344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584520" y="5270400"/>
            <a:ext cx="430380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848640" y="5324400"/>
            <a:ext cx="13633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534520" y="5307120"/>
            <a:ext cx="71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783560" y="-272880"/>
            <a:ext cx="1206360" cy="1163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シーンとボタンの動作の関連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紙芝居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ニメ有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作り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トローラーつきのアニメーション（静止画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含む）の制作演習を行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タンに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ctionScrip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押したときに移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動するシーンの記述を行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こで用いる命令は下記の３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otoAndPlay("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シーン名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",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フレーム番号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特定のシーンへ移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evScene() 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１つ前のシー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extScene() 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次のシー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lay() 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ニメーションの再生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ベントハンドルの中に記述す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op() 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ニメーションの停止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ベントハンドルの中に記述す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練習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右図のようなアニメーションを制作しなさい（なお、右図のようにボタン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アニメーションをコントロールできるなら、アニメーションの内容は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右図の通りである必要は無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543640" y="1266840"/>
            <a:ext cx="3600360" cy="368280"/>
            <a:chOff x="5543640" y="1266840"/>
            <a:chExt cx="3600360" cy="368280"/>
          </a:xfrm>
        </p:grpSpPr>
        <p:sp>
          <p:nvSpPr>
            <p:cNvPr id="119" name=""/>
            <p:cNvSpPr/>
            <p:nvPr/>
          </p:nvSpPr>
          <p:spPr>
            <a:xfrm>
              <a:off x="5543640" y="15336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896320" y="1266840"/>
              <a:ext cx="2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481720" y="1225440"/>
            <a:ext cx="857160" cy="3621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シーン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69040" y="1222200"/>
            <a:ext cx="857160" cy="3621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シーン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27720" y="1219320"/>
            <a:ext cx="1428840" cy="361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シーン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229440" y="1563840"/>
            <a:ext cx="320760" cy="666720"/>
            <a:chOff x="6229440" y="1563840"/>
            <a:chExt cx="320760" cy="666720"/>
          </a:xfrm>
        </p:grpSpPr>
        <p:sp>
          <p:nvSpPr>
            <p:cNvPr id="125" name=""/>
            <p:cNvSpPr/>
            <p:nvPr/>
          </p:nvSpPr>
          <p:spPr>
            <a:xfrm>
              <a:off x="6229440" y="1563840"/>
              <a:ext cx="320760" cy="666720"/>
            </a:xfrm>
            <a:custGeom>
              <a:avLst/>
              <a:gdLst/>
              <a:ahLst/>
              <a:rect l="l" t="t" r="r" b="b"/>
              <a:pathLst>
                <a:path w="202" h="420">
                  <a:moveTo>
                    <a:pt x="8" y="420"/>
                  </a:moveTo>
                  <a:lnTo>
                    <a:pt x="0" y="120"/>
                  </a:lnTo>
                  <a:lnTo>
                    <a:pt x="192" y="0"/>
                  </a:lnTo>
                  <a:lnTo>
                    <a:pt x="202" y="194"/>
                  </a:lnTo>
                  <a:lnTo>
                    <a:pt x="8" y="4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61120" y="1856160"/>
              <a:ext cx="76320" cy="196920"/>
            </a:xfrm>
            <a:custGeom>
              <a:avLst/>
              <a:gdLst/>
              <a:ahLst/>
              <a:rect l="l" t="t" r="r" b="b"/>
              <a:pathLst>
                <a:path w="44" h="84">
                  <a:moveTo>
                    <a:pt x="44" y="0"/>
                  </a:moveTo>
                  <a:lnTo>
                    <a:pt x="44" y="84"/>
                  </a:lnTo>
                  <a:lnTo>
                    <a:pt x="0" y="8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77120" y="1729080"/>
              <a:ext cx="57240" cy="196920"/>
            </a:xfrm>
            <a:custGeom>
              <a:avLst/>
              <a:gdLst/>
              <a:ahLst/>
              <a:rect l="l" t="t" r="r" b="b"/>
              <a:pathLst>
                <a:path w="36" h="124">
                  <a:moveTo>
                    <a:pt x="0" y="0"/>
                  </a:moveTo>
                  <a:lnTo>
                    <a:pt x="0" y="124"/>
                  </a:lnTo>
                  <a:lnTo>
                    <a:pt x="36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62640" y="1773360"/>
              <a:ext cx="88920" cy="209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164360" y="1574640"/>
            <a:ext cx="320760" cy="666720"/>
            <a:chOff x="7164360" y="1574640"/>
            <a:chExt cx="320760" cy="666720"/>
          </a:xfrm>
        </p:grpSpPr>
        <p:sp>
          <p:nvSpPr>
            <p:cNvPr id="130" name=""/>
            <p:cNvSpPr/>
            <p:nvPr/>
          </p:nvSpPr>
          <p:spPr>
            <a:xfrm>
              <a:off x="7164360" y="1574640"/>
              <a:ext cx="320760" cy="666720"/>
            </a:xfrm>
            <a:custGeom>
              <a:avLst/>
              <a:gdLst/>
              <a:ahLst/>
              <a:rect l="l" t="t" r="r" b="b"/>
              <a:pathLst>
                <a:path w="202" h="420">
                  <a:moveTo>
                    <a:pt x="8" y="420"/>
                  </a:moveTo>
                  <a:lnTo>
                    <a:pt x="0" y="120"/>
                  </a:lnTo>
                  <a:lnTo>
                    <a:pt x="192" y="0"/>
                  </a:lnTo>
                  <a:lnTo>
                    <a:pt x="202" y="194"/>
                  </a:lnTo>
                  <a:lnTo>
                    <a:pt x="8" y="4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96040" y="1866960"/>
              <a:ext cx="76320" cy="196920"/>
            </a:xfrm>
            <a:custGeom>
              <a:avLst/>
              <a:gdLst/>
              <a:ahLst/>
              <a:rect l="l" t="t" r="r" b="b"/>
              <a:pathLst>
                <a:path w="44" h="84">
                  <a:moveTo>
                    <a:pt x="44" y="0"/>
                  </a:moveTo>
                  <a:lnTo>
                    <a:pt x="44" y="84"/>
                  </a:lnTo>
                  <a:lnTo>
                    <a:pt x="0" y="8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12040" y="1739880"/>
              <a:ext cx="57240" cy="196920"/>
            </a:xfrm>
            <a:custGeom>
              <a:avLst/>
              <a:gdLst/>
              <a:ahLst/>
              <a:rect l="l" t="t" r="r" b="b"/>
              <a:pathLst>
                <a:path w="36" h="124">
                  <a:moveTo>
                    <a:pt x="0" y="0"/>
                  </a:moveTo>
                  <a:lnTo>
                    <a:pt x="0" y="124"/>
                  </a:lnTo>
                  <a:lnTo>
                    <a:pt x="36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7560" y="1784160"/>
              <a:ext cx="88920" cy="209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327560" y="5637240"/>
            <a:ext cx="29941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n (releas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otoAndPlay("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シーン１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",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40480" y="5622840"/>
            <a:ext cx="170352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n (releas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extSce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la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920" y="5622840"/>
            <a:ext cx="168588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n (releas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evSce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la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9640" y="4264200"/>
            <a:ext cx="1206360" cy="116352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5402160" y="1574640"/>
            <a:ext cx="320760" cy="666720"/>
            <a:chOff x="5402160" y="1574640"/>
            <a:chExt cx="320760" cy="666720"/>
          </a:xfrm>
        </p:grpSpPr>
        <p:sp>
          <p:nvSpPr>
            <p:cNvPr id="139" name=""/>
            <p:cNvSpPr/>
            <p:nvPr/>
          </p:nvSpPr>
          <p:spPr>
            <a:xfrm>
              <a:off x="5402160" y="1574640"/>
              <a:ext cx="320760" cy="666720"/>
            </a:xfrm>
            <a:custGeom>
              <a:avLst/>
              <a:gdLst/>
              <a:ahLst/>
              <a:rect l="l" t="t" r="r" b="b"/>
              <a:pathLst>
                <a:path w="202" h="420">
                  <a:moveTo>
                    <a:pt x="8" y="420"/>
                  </a:moveTo>
                  <a:lnTo>
                    <a:pt x="0" y="120"/>
                  </a:lnTo>
                  <a:lnTo>
                    <a:pt x="192" y="0"/>
                  </a:lnTo>
                  <a:lnTo>
                    <a:pt x="202" y="194"/>
                  </a:lnTo>
                  <a:lnTo>
                    <a:pt x="8" y="4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33840" y="1866960"/>
              <a:ext cx="76320" cy="196920"/>
            </a:xfrm>
            <a:custGeom>
              <a:avLst/>
              <a:gdLst/>
              <a:ahLst/>
              <a:rect l="l" t="t" r="r" b="b"/>
              <a:pathLst>
                <a:path w="44" h="84">
                  <a:moveTo>
                    <a:pt x="44" y="0"/>
                  </a:moveTo>
                  <a:lnTo>
                    <a:pt x="44" y="84"/>
                  </a:lnTo>
                  <a:lnTo>
                    <a:pt x="0" y="8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49840" y="1739880"/>
              <a:ext cx="57240" cy="196920"/>
            </a:xfrm>
            <a:custGeom>
              <a:avLst/>
              <a:gdLst/>
              <a:ahLst/>
              <a:rect l="l" t="t" r="r" b="b"/>
              <a:pathLst>
                <a:path w="36" h="124">
                  <a:moveTo>
                    <a:pt x="0" y="0"/>
                  </a:moveTo>
                  <a:lnTo>
                    <a:pt x="0" y="124"/>
                  </a:lnTo>
                  <a:lnTo>
                    <a:pt x="36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35360" y="1784160"/>
              <a:ext cx="88920" cy="209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rot="10800000">
            <a:off x="6276600" y="2117520"/>
            <a:ext cx="885960" cy="247320"/>
          </a:xfrm>
          <a:custGeom>
            <a:avLst/>
            <a:gdLst>
              <a:gd name="textAreaLeft" fmla="*/ 154800 w 885960"/>
              <a:gd name="textAreaRight" fmla="*/ 642240 w 885960"/>
              <a:gd name="textAreaTop" fmla="*/ 33120 h 247320"/>
              <a:gd name="textAreaBottom" fmla="*/ 2142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5378040" y="2114640"/>
            <a:ext cx="885960" cy="247680"/>
          </a:xfrm>
          <a:custGeom>
            <a:avLst/>
            <a:gdLst>
              <a:gd name="textAreaLeft" fmla="*/ 154800 w 885960"/>
              <a:gd name="textAreaRight" fmla="*/ 642240 w 885960"/>
              <a:gd name="textAreaTop" fmla="*/ 33120 h 247680"/>
              <a:gd name="textAreaBottom" fmla="*/ 2145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1565280"/>
            <a:ext cx="1047960" cy="152280"/>
          </a:xfrm>
          <a:custGeom>
            <a:avLst/>
            <a:gdLst>
              <a:gd name="textAreaLeft" fmla="*/ 183240 w 1047960"/>
              <a:gd name="textAreaRight" fmla="*/ 759960 w 104796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40480" y="1552680"/>
            <a:ext cx="1047600" cy="152280"/>
          </a:xfrm>
          <a:custGeom>
            <a:avLst/>
            <a:gdLst>
              <a:gd name="textAreaLeft" fmla="*/ 183240 w 1047600"/>
              <a:gd name="textAreaRight" fmla="*/ 759600 w 10476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86680" y="77148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0"/>
                            </p:stCondLst>
                            <p:childTnLst>
                              <p:par>
                                <p:cTn id="4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000"/>
                            </p:stCondLst>
                            <p:childTnLst>
                              <p:par>
                                <p:cTn id="4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提出課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6760" y="1018800"/>
            <a:ext cx="857232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課題１：３種類以上のボタンを作り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課題２：課題１のボタンを用い、リンク集を作り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保存：自分の記録用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標準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提出：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SWF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形式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又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URL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ブリッシン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「ファイル」→「書き出し」→「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ムービー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書き出し」→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W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式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ラッシュムービー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ファイル名　学籍番号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.s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次回までに、考えてきて欲しい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ョートアニメ、または紙芝居（アニメーション可）、アドベンチャーゲー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ーマ：キノミキノマ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提出〆切：＊月＊日（第１３回講義）＊＊：＊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必ず、絵コンテを書いてから、制作をしてもら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少し考えてきてください。（絵コンテ用紙も配布しま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おまけ）アニメーションするボタ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009880" y="5276880"/>
          <a:ext cx="254448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9880" y="5276880"/>
                    <a:ext cx="25444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741920" y="5267160"/>
          <a:ext cx="2414520" cy="11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1920" y="5267160"/>
                    <a:ext cx="2414520" cy="11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804960" y="3083040"/>
            <a:ext cx="1133280" cy="2643120"/>
          </a:xfrm>
          <a:custGeom>
            <a:avLst/>
            <a:gdLst/>
            <a:ahLst/>
            <a:rect l="l" t="t" r="r" b="b"/>
            <a:pathLst>
              <a:path w="714" h="1348">
                <a:moveTo>
                  <a:pt x="150" y="0"/>
                </a:moveTo>
                <a:lnTo>
                  <a:pt x="0" y="0"/>
                </a:lnTo>
                <a:lnTo>
                  <a:pt x="0" y="1348"/>
                </a:lnTo>
                <a:lnTo>
                  <a:pt x="714" y="13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99040" y="4205160"/>
            <a:ext cx="1901880" cy="1629000"/>
          </a:xfrm>
          <a:custGeom>
            <a:avLst/>
            <a:gdLst/>
            <a:ahLst/>
            <a:rect l="l" t="t" r="r" b="b"/>
            <a:pathLst>
              <a:path w="1198" h="957">
                <a:moveTo>
                  <a:pt x="0" y="0"/>
                </a:moveTo>
                <a:lnTo>
                  <a:pt x="1198" y="0"/>
                </a:lnTo>
                <a:lnTo>
                  <a:pt x="1198" y="957"/>
                </a:lnTo>
                <a:lnTo>
                  <a:pt x="760" y="957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96920" y="6292800"/>
            <a:ext cx="25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ボタンシンボルの編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92680" y="6389640"/>
            <a:ext cx="3346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ボタンシンボルの「オーバー」のアニメーションの編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00520" y="5432400"/>
            <a:ext cx="311040" cy="311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83040" y="4516560"/>
            <a:ext cx="951120" cy="877680"/>
          </a:xfrm>
          <a:custGeom>
            <a:avLst/>
            <a:gdLst/>
            <a:ahLst/>
            <a:rect l="l" t="t" r="r" b="b"/>
            <a:pathLst>
              <a:path w="599" h="553">
                <a:moveTo>
                  <a:pt x="0" y="553"/>
                </a:moveTo>
                <a:lnTo>
                  <a:pt x="599" y="0"/>
                </a:lnTo>
                <a:lnTo>
                  <a:pt x="16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0760" y="1018800"/>
            <a:ext cx="888876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シンプルボタンの応用としてアニメーションするボタンを構築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必要スキル：シンボル、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シンプルボタ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作る画像の種類：アップ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通常状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、オーバー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重ねた時）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、ダウ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押したとき）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、ヒッ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選択可能範囲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制作手順（ここでは「オーバー」時にアニメーショ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アッ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」の画像の制作→シンボル化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シンボル化（タイプは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</a:rPr>
              <a:t>「ボタン」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選択するこ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シンボルの編集：シンボルの編集ボタン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シンボルのダブルクリック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右クリック→編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オーバー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」にキーフレームを追加 → オーバーの状態の画像を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制作画像→シンボル化（タイプ：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ムービークリッ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１のシンボルの編集→アニメーション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１のシンボルの編集モードの終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ダウ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」にキーフレームを追加 → ダウンの状態の画像を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ヒッ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」にキーフレームを追加 → ボタンが反応する範囲を描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16080" y="5432400"/>
            <a:ext cx="694080" cy="3110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19680" y="5430960"/>
            <a:ext cx="693720" cy="3110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46880" y="5429160"/>
            <a:ext cx="784080" cy="311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7202520" y="220680"/>
            <a:ext cx="1104840" cy="485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342200" y="622440"/>
            <a:ext cx="113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ampl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おまけ）パブリッシ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ブリッシュは、制作した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ンテンツ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eb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する場合に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するために必要なファイルを作って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ツ・注意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ステージのサイズ：コンテンツのサイズに合わせたステージのサイズにするこ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678720" y="20520"/>
          <a:ext cx="219528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78720" y="20520"/>
                    <a:ext cx="219528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7182000" y="1455840"/>
            <a:ext cx="1390680" cy="25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86480" y="1370160"/>
            <a:ext cx="647640" cy="399960"/>
          </a:xfrm>
          <a:prstGeom prst="rightArrow">
            <a:avLst>
              <a:gd name="adj1" fmla="val 42528"/>
              <a:gd name="adj2" fmla="val 745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1920" y="1606680"/>
          <a:ext cx="2428920" cy="264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20" y="1606680"/>
                    <a:ext cx="2428920" cy="2643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201760" y="1652760"/>
          <a:ext cx="2735280" cy="27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1760" y="1652760"/>
                    <a:ext cx="2735280" cy="2787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821120" y="1868400"/>
          <a:ext cx="2417760" cy="268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1120" y="1868400"/>
                    <a:ext cx="2417760" cy="2684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869160" y="2690640"/>
          <a:ext cx="2212920" cy="217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69160" y="2690640"/>
                    <a:ext cx="2212920" cy="2175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 flipV="1">
            <a:off x="7148520" y="2349360"/>
            <a:ext cx="644400" cy="601920"/>
          </a:xfrm>
          <a:custGeom>
            <a:avLst/>
            <a:gdLst>
              <a:gd name="textAreaLeft" fmla="*/ 214920 w 644400"/>
              <a:gd name="textAreaRight" fmla="*/ 551880 w 644400"/>
              <a:gd name="textAreaTop" fmla="*/ 347040 h 601920"/>
              <a:gd name="textAreaBottom" fmla="*/ 515880 h 6019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562960" y="1371600"/>
            <a:ext cx="514440" cy="4300560"/>
          </a:xfrm>
          <a:custGeom>
            <a:avLst/>
            <a:gdLst/>
            <a:ahLst/>
            <a:rect l="l" t="t" r="r" b="b"/>
            <a:pathLst>
              <a:path w="324" h="2532">
                <a:moveTo>
                  <a:pt x="18" y="2532"/>
                </a:moveTo>
                <a:lnTo>
                  <a:pt x="324" y="2532"/>
                </a:lnTo>
                <a:lnTo>
                  <a:pt x="324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47080" y="1176480"/>
            <a:ext cx="1530360" cy="334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2:19:04Z</dcterms:created>
  <dc:creator>atlabo</dc:creator>
  <dc:description/>
  <dc:language>en-US</dc:language>
  <cp:lastModifiedBy>atlabo</cp:lastModifiedBy>
  <dcterms:modified xsi:type="dcterms:W3CDTF">2006-08-22T06:06:17Z</dcterms:modified>
  <cp:revision>856</cp:revision>
  <dc:subject/>
  <dc:title>ドキュメントデザイン２</dc:title>
</cp:coreProperties>
</file>