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A2D6-32A3-41E8-BBF9-2268D79E8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6872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3E81-E0C8-48B1-BCC2-56EC61C22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48BA-77D0-4450-A920-9D7431A2E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01880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68720"/>
            <a:ext cx="264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B98C-A879-45D4-B557-0C01152332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6C40-872A-49EC-A4F2-CCB0CD22A6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8831-E4E1-446C-BB25-827CBE742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0BD7-13F9-46C9-9898-94B8E2B9B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A840-9C95-4030-8155-4995A3878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6F044-51A6-44E7-A898-8D54539DE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0C37-F66F-4D0F-8F55-80DBA291E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6872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65C9-8609-423B-9EE2-C23CE91E9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18800"/>
            <a:ext cx="40158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68720"/>
            <a:ext cx="822960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C88A-B312-4C54-9D23-EBDAED18A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1636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A2FC-C1E3-4AFF-80EF-A5EC20310BB9}" type="slidenum">
              <a:rPr b="0" lang="ja-JP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D2(2005040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7640" y="1000080"/>
            <a:ext cx="7453080" cy="0"/>
          </a:xfrm>
          <a:prstGeom prst="line">
            <a:avLst/>
          </a:prstGeom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issan.co.jp/" TargetMode="External"/><Relationship Id="rId2" Type="http://schemas.openxmlformats.org/officeDocument/2006/relationships/hyperlink" Target="http://www.nissan.co.jp/" TargetMode="External"/><Relationship Id="rId3" Type="http://schemas.openxmlformats.org/officeDocument/2006/relationships/hyperlink" Target="http://www.nissan.co.jp/" TargetMode="External"/><Relationship Id="rId4" Type="http://schemas.openxmlformats.org/officeDocument/2006/relationships/hyperlink" Target="http://www.sony.co.jp/" TargetMode="External"/><Relationship Id="rId5" Type="http://schemas.openxmlformats.org/officeDocument/2006/relationships/hyperlink" Target="http://www.sony.co.jp/" TargetMode="External"/><Relationship Id="rId6" Type="http://schemas.openxmlformats.org/officeDocument/2006/relationships/hyperlink" Target="http://www.act2.co.jp/toonboom/" TargetMode="External"/><Relationship Id="rId7" Type="http://schemas.openxmlformats.org/officeDocument/2006/relationships/hyperlink" Target="http://www.lostmarble.com/" TargetMode="External"/><Relationship Id="rId8" Type="http://schemas.openxmlformats.org/officeDocument/2006/relationships/hyperlink" Target="http://www.lostmarble.com/" TargetMode="External"/><Relationship Id="rId9" Type="http://schemas.openxmlformats.org/officeDocument/2006/relationships/hyperlink" Target="http://www.lostmarble.com/" TargetMode="External"/><Relationship Id="rId10" Type="http://schemas.openxmlformats.org/officeDocument/2006/relationships/hyperlink" Target="http://www.dmic.org/moho/" TargetMode="External"/><Relationship Id="rId11" Type="http://schemas.openxmlformats.org/officeDocument/2006/relationships/hyperlink" Target="http://www.dmic.org/moho/" TargetMode="External"/><Relationship Id="rId12" Type="http://schemas.openxmlformats.org/officeDocument/2006/relationships/hyperlink" Target="http://www.dmic.org/moho/" TargetMode="External"/><Relationship Id="rId13" Type="http://schemas.openxmlformats.org/officeDocument/2006/relationships/hyperlink" Target="http://www.hillmancurtis.com/" TargetMode="External"/><Relationship Id="rId14" Type="http://schemas.openxmlformats.org/officeDocument/2006/relationships/hyperlink" Target="http://www.hillmancurtis.com/" TargetMode="External"/><Relationship Id="rId15" Type="http://schemas.openxmlformats.org/officeDocument/2006/relationships/hyperlink" Target="http://www.hillmancurtis.com/" TargetMode="External"/><Relationship Id="rId1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ドキュメントデザイン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本文理大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坪倉篤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bu.ac.jp/~tsubok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90560"/>
            <a:ext cx="77342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塗りの色の変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9840" y="1018800"/>
            <a:ext cx="790416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塗りの変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（バケツツール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描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バケツツールにて塗りの色の変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色のコピー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（スポイトツール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つの色が異なる図形の描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スポイトツールにて、片方図形の箇所で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ーソルが、バケツツールに変更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片方の任意の箇所で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色の変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（選択ツール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図形の描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画した図形を選択ツールで選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て、色の変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を選択時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キーを押しながら連続して選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2920" y="1058760"/>
          <a:ext cx="896760" cy="56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058760"/>
                    <a:ext cx="89676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0" y="1611360"/>
            <a:ext cx="1047600" cy="161280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4520" y="3575160"/>
            <a:ext cx="415800" cy="34920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922560"/>
            <a:ext cx="1047600" cy="29354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3224160"/>
            <a:ext cx="415800" cy="34920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360" y="1295280"/>
            <a:ext cx="415800" cy="31608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存と書き出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cromedia Flas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は様々な保存形式にて保存が可能。それぞれに特徴があるので、それらを理解した中で、保存しなさ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cromedia Flas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編集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ラウザー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lugI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の閲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ash Play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の再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ニメーショ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IF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形式での保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ラウザーでの閲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30240" y="3192480"/>
            <a:ext cx="1347840" cy="480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95320" y="4456080"/>
            <a:ext cx="4557600" cy="814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28800" y="6094440"/>
            <a:ext cx="4557600" cy="506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課題０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lea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アカウント申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課題１　三日月を描きなさ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課題２　人の顔を描きなさ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課題３　斜めから見た円柱を描きなさ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ファイル形式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形式のファイ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ールアドレス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2-dmt@nbu.ac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ールタイトル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DD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月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生番号 名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シラバ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0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度前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18800"/>
            <a:ext cx="91440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科目名：ドキュメントデザイン２　担当教員：坪倉篤志　学年：３年生・前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的または到達目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「マルチメディア演習」、「ドキュメントデザイン１」にて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イト制作、運営に関する基礎的な知識と技能について学習を行なった。この科目で は、さらなるアクティビティのあるコンテンツの制作として、現在、多く用いられ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media? Fla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用いインタラクティビティのあるアニメーション制作に向けた制作演習を行ないます。また制作運営に関し、理解を深める学習も行なう。学習到 達目標レベルは、ナクシ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ACSE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全米通信システム技術者協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認定資格である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T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ナクシー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マスター技術　１スター」から 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T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ナクシー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マスター技術　２スター」のレベルに設定して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関連科目　マルチメディア基礎、マルチメディア演習、ドキュメントデザイン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験心得　演習内容を重視しますので、出席を欠かさないで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績　課題、成績、小テスト、出席等の総合か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課題の提出　メール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ブジェクト：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DD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月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生番号 名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メールアドレス：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2-dmt@nbu.ac.j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週以降は課題提出システムに移行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（予定：金曜までは動いてたんやけど…デバック中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シラバ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876240"/>
          <a:ext cx="9069480" cy="5985000"/>
        </p:xfrm>
        <a:graphic>
          <a:graphicData uri="http://schemas.openxmlformats.org/drawingml/2006/table">
            <a:tbl>
              <a:tblPr/>
              <a:tblGrid>
                <a:gridCol w="415800"/>
                <a:gridCol w="505080"/>
                <a:gridCol w="3884400"/>
                <a:gridCol w="590760"/>
                <a:gridCol w="36734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: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小テストと解説の範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l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前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オリエンテーショ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入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般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マー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描画の基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開発プロセ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-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オーサリングツー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インフォメーションアーキテクチャ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キュリティ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ニメーショ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：範囲 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～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-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CSE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後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まと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ンタラクティブコンテン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ンタラクティブコンテン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-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ンタラクティブコンテン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Per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onScript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JavaScrip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onScript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AS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制作実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間試験：範囲　後半 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章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-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-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期末試験：全範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lear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導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686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CT→@lea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移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MS:moodl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利用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oop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MS:Content Manege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MS:Course Manege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サイトにてアカウント発行申請をして下さい。（講義用サイトからアクセス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サーバーの設定の関係で画像、メール関係は動作してません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手作業での登録のため、２～３日、かかると思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登録後、必ずログインテストと共にパスワードの変更をす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授業への登録作業も各自で行うこ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登録処理に２～３分かかると思います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2480" y="4264200"/>
            <a:ext cx="3618000" cy="240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19440" y="4248000"/>
            <a:ext cx="3625920" cy="2409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204920" y="5929200"/>
            <a:ext cx="2328840" cy="368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11840" y="5786280"/>
            <a:ext cx="2604960" cy="368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カウントの発行手続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1916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アニメ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ベクターグラフィックスによるアニメーション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さまざまなアニメーションについ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セル、クレイ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media Fl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ニメーショ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モーショングラフィック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対話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ボタン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音声、画像、動画の組み込みも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63840" y="4761000"/>
            <a:ext cx="358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用いたサイト例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issan </a:t>
            </a: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issan.co.jp</a:t>
            </a: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ony </a:t>
            </a: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ony.co.j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2360" y="4784760"/>
            <a:ext cx="49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形式のアニメーション制作ソフト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oon Boon </a:t>
            </a: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act2.co.jp/toonboom/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oho </a:t>
            </a: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lostmarble.com</a:t>
            </a: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oho Contest </a:t>
            </a: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</a:t>
            </a: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dmic.org/moho</a:t>
            </a: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57360" y="5840280"/>
            <a:ext cx="34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品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</a:t>
            </a: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hillmancurtis.com</a:t>
            </a: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ttp://www.titoonic.d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lash→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個人製作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がテレビアニメに　「古墳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GAL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のコフィー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www.itmedia.co.jp/news/articles/0603/24/news086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蛙男商会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: http://www.kaeruotoko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新海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Ｏｔｈｅｒ　ｖｏｉｃｅ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www2.odn.ne.jp/~ccs50140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907240" y="1827360"/>
          <a:ext cx="323676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7240" y="1827360"/>
                    <a:ext cx="32367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801800" y="2516040"/>
          <a:ext cx="3427560" cy="323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1800" y="2516040"/>
                    <a:ext cx="3427560" cy="32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面構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668600" y="1352520"/>
          <a:ext cx="614520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8600" y="1352520"/>
                    <a:ext cx="61452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595520" y="1579680"/>
            <a:ext cx="631800" cy="3125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11400" y="1677960"/>
            <a:ext cx="4271760" cy="1463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77920" y="4788000"/>
            <a:ext cx="4256280" cy="13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67520" y="1494000"/>
            <a:ext cx="1697040" cy="4606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9880" y="247644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ツールバ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0080" y="2262240"/>
            <a:ext cx="28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タイムラインパネル</a:t>
            </a:r>
            <a:br>
              <a:rPr sz="18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当面は使わないので片付けてお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7480" y="37242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ワークエリア（ステー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84960" y="3940200"/>
            <a:ext cx="12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パネル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38520" y="5653080"/>
            <a:ext cx="1862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パネ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本図形を描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22480" y="1018800"/>
            <a:ext cx="779616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：（線ツール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808080"/>
                </a:solidFill>
                <a:latin typeface="Arial"/>
              </a:rPr>
              <a:t>memo:Shift</a:t>
            </a:r>
            <a:r>
              <a:rPr b="0" i="1" lang="ja-JP" sz="1600" spc="-1" strike="noStrike">
                <a:solidFill>
                  <a:srgbClr val="808080"/>
                </a:solidFill>
                <a:latin typeface="Arial"/>
              </a:rPr>
              <a:t>キーを押しながらドラッ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円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：（楕円ツール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808080"/>
                </a:solidFill>
                <a:latin typeface="Arial"/>
              </a:rPr>
              <a:t>memo: Shift</a:t>
            </a:r>
            <a:r>
              <a:rPr b="0" i="1" lang="ja-JP" sz="1600" spc="-1" strike="noStrike">
                <a:solidFill>
                  <a:srgbClr val="808080"/>
                </a:solidFill>
                <a:latin typeface="Arial"/>
              </a:rPr>
              <a:t>キーを押しながらドラッ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四角形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：（矩形ツール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808080"/>
                </a:solidFill>
                <a:latin typeface="Arial"/>
              </a:rPr>
              <a:t>memo: Shift</a:t>
            </a:r>
            <a:r>
              <a:rPr b="0" i="1" lang="ja-JP" sz="1600" spc="-1" strike="noStrike">
                <a:solidFill>
                  <a:srgbClr val="808080"/>
                </a:solidFill>
                <a:latin typeface="Arial"/>
              </a:rPr>
              <a:t>キーを押しながらドラッ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角丸四角形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：（矩形ツール→オプションの「角丸のポイント数」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三角形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：（多角形ツール→オプション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星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：（多角形ツール→オプション→スタイル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演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６種類の異なる形状の図形を描きなさい：○△□☆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3360" y="1058760"/>
          <a:ext cx="897120" cy="56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058760"/>
                    <a:ext cx="89712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0" y="1230480"/>
            <a:ext cx="1181160" cy="1014120"/>
          </a:xfrm>
          <a:custGeom>
            <a:avLst/>
            <a:gdLst/>
            <a:ahLst/>
            <a:rect l="l" t="t" r="r" b="b"/>
            <a:pathLst>
              <a:path w="744" h="639">
                <a:moveTo>
                  <a:pt x="21" y="0"/>
                </a:moveTo>
                <a:lnTo>
                  <a:pt x="744" y="0"/>
                </a:lnTo>
                <a:lnTo>
                  <a:pt x="744" y="639"/>
                </a:lnTo>
                <a:lnTo>
                  <a:pt x="31" y="639"/>
                </a:lnTo>
                <a:lnTo>
                  <a:pt x="31" y="419"/>
                </a:lnTo>
                <a:lnTo>
                  <a:pt x="346" y="419"/>
                </a:lnTo>
                <a:lnTo>
                  <a:pt x="346" y="241"/>
                </a:lnTo>
                <a:lnTo>
                  <a:pt x="0" y="241"/>
                </a:lnTo>
                <a:lnTo>
                  <a:pt x="21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560680"/>
            <a:ext cx="1047600" cy="19447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495760"/>
            <a:ext cx="1047600" cy="136224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985080" y="4335480"/>
          <a:ext cx="29196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5080" y="4335480"/>
                    <a:ext cx="2919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" name=""/>
          <p:cNvGrpSpPr/>
          <p:nvPr/>
        </p:nvGrpSpPr>
        <p:grpSpPr>
          <a:xfrm>
            <a:off x="111240" y="700200"/>
            <a:ext cx="2993760" cy="893520"/>
            <a:chOff x="111240" y="700200"/>
            <a:chExt cx="2993760" cy="893520"/>
          </a:xfrm>
        </p:grpSpPr>
        <p:sp>
          <p:nvSpPr>
            <p:cNvPr id="86" name=""/>
            <p:cNvSpPr/>
            <p:nvPr/>
          </p:nvSpPr>
          <p:spPr>
            <a:xfrm>
              <a:off x="111240" y="1246320"/>
              <a:ext cx="763560" cy="34740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865080" y="930240"/>
              <a:ext cx="696960" cy="316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92200" y="700200"/>
              <a:ext cx="161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未だ触らな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塗りと線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06640" y="1018800"/>
            <a:ext cx="758016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線と塗りの練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線だけの円を描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線と塗りの変更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プロパティ、ツールバー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円に色を流し込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バケツツー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塗りの移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選択ツー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線の移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選択ツー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練習：矩形の線の移動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シングルクリック、ダブルクリック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図形の分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線で図形の分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図形を線で分断→移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塗りで線の分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図形を線無しの矩形を上書き→移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演習、下記の課題の図形を描きなさ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演習１、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演習２、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3360" y="1058760"/>
          <a:ext cx="897120" cy="56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058760"/>
                    <a:ext cx="89712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1612800"/>
            <a:ext cx="1047600" cy="6476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560680"/>
            <a:ext cx="1047600" cy="64764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591000"/>
            <a:ext cx="1047600" cy="84780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62520"/>
            <a:ext cx="1047600" cy="10954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09760"/>
            <a:ext cx="500040" cy="39852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560" y="1279440"/>
            <a:ext cx="500040" cy="33336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307040" y="5992920"/>
          <a:ext cx="1198440" cy="86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7040" y="5992920"/>
                    <a:ext cx="11984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802480" y="5992920"/>
          <a:ext cx="861840" cy="80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02480" y="5992920"/>
                    <a:ext cx="86184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800760" y="249120"/>
            <a:ext cx="2076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元に戻す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tl+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2:19:04Z</dcterms:created>
  <dc:creator>atlabo</dc:creator>
  <dc:description/>
  <dc:language>en-US</dc:language>
  <cp:lastModifiedBy>atlabo</cp:lastModifiedBy>
  <dcterms:modified xsi:type="dcterms:W3CDTF">2006-08-22T06:37:02Z</dcterms:modified>
  <cp:revision>89</cp:revision>
  <dc:subject/>
  <dc:title>ドキュメントデザイン２</dc:title>
</cp:coreProperties>
</file>