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13.gif" ContentType="image/gif"/>
  <Override PartName="/ppt/media/image16.png" ContentType="image/png"/>
  <Override PartName="/ppt/media/image18.png" ContentType="image/png"/>
  <Override PartName="/ppt/media/image17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1.gif" ContentType="image/gif"/>
  <Override PartName="/ppt/media/image4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FE3D-996B-4CE8-B120-37F0EF1AE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6E22-3D2D-4479-8238-3F9B8EAE5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6BE8-29F9-4DA9-ADC0-2D64445D7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43FD-71B8-4252-AF32-88A995360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1726-2D44-4B3A-A8FE-E917AD1444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DD91-2692-41DF-B317-81A439CCA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8745-F7A7-492B-A52F-D376CC35E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6533-0E2D-4091-8532-3D2388432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CCD9-D796-43FF-AC70-F30E4DF63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E2F9-8604-406D-9E7B-E842195D8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D8F2-E4B0-4CA5-BCAA-1D10AFB4C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64F4-6F35-4626-82F3-05EC524DE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636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DA1F-7B8C-4B43-8015-A92B84A3CD3C}" type="slidenum">
              <a:rPr b="0" lang="ja-JP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D2(2005040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640" y="1000080"/>
            <a:ext cx="7453080" cy="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bu.ac.jp/~tsubokur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790560"/>
            <a:ext cx="77342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ドキュメントデザイン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917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文理大学　坪倉篤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bu.ac.jp/~tsubok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42800" y="1392120"/>
          <a:ext cx="8307000" cy="5413320"/>
        </p:xfrm>
        <a:graphic>
          <a:graphicData uri="http://schemas.openxmlformats.org/drawingml/2006/table">
            <a:tbl>
              <a:tblPr/>
              <a:tblGrid>
                <a:gridCol w="520560"/>
                <a:gridCol w="323640"/>
                <a:gridCol w="3556800"/>
                <a:gridCol w="541080"/>
                <a:gridCol w="336492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: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小テストと解説の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前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リエンテーショ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入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般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マー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開発プロセ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オーサリングツール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インフォメーションアーキテクチ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キュリテ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～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後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まと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onScript(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Per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JavaScri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AS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/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発表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　後半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-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期末試験：全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68200" y="4421160"/>
            <a:ext cx="8539200" cy="5475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04120" y="4944960"/>
            <a:ext cx="611280" cy="1281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lash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先週の復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38320" y="1018800"/>
            <a:ext cx="754848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レイヤー）、フレーム、タイムライン、キーフレーム、カレントフレー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ニメーションの種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アニメーショ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モーショントゥーインアニメーショ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ガイドレイヤ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ェイプトゥイーンアニメーショ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ェイプ１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複数のシェイ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色の異なるシェイ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ェイプヒ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日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レイヤーを利用したアニメーショ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マスクレイヤ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タイムラインエフェク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3360" y="1058760"/>
          <a:ext cx="897120" cy="567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1058760"/>
                    <a:ext cx="897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1876320"/>
            <a:ext cx="1047600" cy="3841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560680"/>
            <a:ext cx="1047600" cy="6476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09760"/>
            <a:ext cx="500040" cy="3985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7560" y="1279440"/>
            <a:ext cx="500040" cy="5796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" y="3575160"/>
            <a:ext cx="415800" cy="3492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69840" y="3922560"/>
            <a:ext cx="1047600" cy="29354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227640" y="0"/>
            <a:ext cx="2435040" cy="1436400"/>
            <a:chOff x="6227640" y="0"/>
            <a:chExt cx="2435040" cy="1436400"/>
          </a:xfrm>
        </p:grpSpPr>
        <p:sp>
          <p:nvSpPr>
            <p:cNvPr id="57" name=""/>
            <p:cNvSpPr/>
            <p:nvPr/>
          </p:nvSpPr>
          <p:spPr>
            <a:xfrm flipV="1">
              <a:off x="6299640" y="711000"/>
              <a:ext cx="2363040" cy="60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31080" y="0"/>
              <a:ext cx="650880" cy="106272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24560" y="96120"/>
              <a:ext cx="650880" cy="106272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94280" y="265320"/>
              <a:ext cx="650880" cy="106272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7640" y="373680"/>
              <a:ext cx="650880" cy="106272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20240" y="639360"/>
              <a:ext cx="241200" cy="4219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19360" y="530640"/>
              <a:ext cx="241200" cy="422280"/>
            </a:xfrm>
            <a:prstGeom prst="smileyFace">
              <a:avLst>
                <a:gd name="adj" fmla="val -4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14000" y="554760"/>
              <a:ext cx="240840" cy="4219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32400" y="228960"/>
              <a:ext cx="240840" cy="422280"/>
            </a:xfrm>
            <a:prstGeom prst="smileyFace">
              <a:avLst>
                <a:gd name="adj" fmla="val -4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219720" y="1825560"/>
            <a:ext cx="2567160" cy="961920"/>
            <a:chOff x="6219720" y="1825560"/>
            <a:chExt cx="2567160" cy="961920"/>
          </a:xfrm>
        </p:grpSpPr>
        <p:grpSp>
          <p:nvGrpSpPr>
            <p:cNvPr id="67" name=""/>
            <p:cNvGrpSpPr/>
            <p:nvPr/>
          </p:nvGrpSpPr>
          <p:grpSpPr>
            <a:xfrm>
              <a:off x="6219720" y="1834920"/>
              <a:ext cx="1193760" cy="952560"/>
              <a:chOff x="6219720" y="1834920"/>
              <a:chExt cx="1193760" cy="952560"/>
            </a:xfrm>
          </p:grpSpPr>
          <p:sp>
            <p:nvSpPr>
              <p:cNvPr id="68" name=""/>
              <p:cNvSpPr/>
              <p:nvPr/>
            </p:nvSpPr>
            <p:spPr>
              <a:xfrm>
                <a:off x="6219720" y="183492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46800" y="2330280"/>
                <a:ext cx="469800" cy="4060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6524280" y="2291760"/>
                <a:ext cx="5716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219720" y="183492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46800" y="2330280"/>
                <a:ext cx="469800" cy="4060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24280" y="2291760"/>
                <a:ext cx="5716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593120" y="1825560"/>
              <a:ext cx="1193760" cy="952560"/>
              <a:chOff x="7593120" y="1825560"/>
              <a:chExt cx="1193760" cy="952560"/>
            </a:xfrm>
          </p:grpSpPr>
          <p:sp>
            <p:nvSpPr>
              <p:cNvPr id="75" name=""/>
              <p:cNvSpPr/>
              <p:nvPr/>
            </p:nvSpPr>
            <p:spPr>
              <a:xfrm>
                <a:off x="7593120" y="182556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240760" y="1990440"/>
                <a:ext cx="469800" cy="406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8012160" y="2180880"/>
                <a:ext cx="469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593120" y="182556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240760" y="1990440"/>
                <a:ext cx="469800" cy="406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012160" y="2180880"/>
                <a:ext cx="469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7317000" y="2139840"/>
              <a:ext cx="425160" cy="407880"/>
            </a:xfrm>
            <a:prstGeom prst="rightArrow">
              <a:avLst>
                <a:gd name="adj1" fmla="val 33852"/>
                <a:gd name="adj2" fmla="val 5795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189840" y="4211640"/>
            <a:ext cx="2520720" cy="850680"/>
            <a:chOff x="6189840" y="4211640"/>
            <a:chExt cx="2520720" cy="850680"/>
          </a:xfrm>
        </p:grpSpPr>
        <p:grpSp>
          <p:nvGrpSpPr>
            <p:cNvPr id="83" name=""/>
            <p:cNvGrpSpPr/>
            <p:nvPr/>
          </p:nvGrpSpPr>
          <p:grpSpPr>
            <a:xfrm>
              <a:off x="6189840" y="4211640"/>
              <a:ext cx="1168920" cy="821160"/>
              <a:chOff x="6189840" y="4211640"/>
              <a:chExt cx="1168920" cy="821160"/>
            </a:xfrm>
          </p:grpSpPr>
          <p:sp>
            <p:nvSpPr>
              <p:cNvPr id="84" name=""/>
              <p:cNvSpPr/>
              <p:nvPr/>
            </p:nvSpPr>
            <p:spPr>
              <a:xfrm>
                <a:off x="6189840" y="4211640"/>
                <a:ext cx="1168920" cy="821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15640" y="4380120"/>
                <a:ext cx="550800" cy="44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65280" y="426744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65280" y="477396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69480" y="476280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69480" y="425628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6492960" y="4267440"/>
                <a:ext cx="20196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11440" y="4368960"/>
                <a:ext cx="7848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6886080" y="4886640"/>
                <a:ext cx="15732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6414120" y="4672440"/>
                <a:ext cx="5616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89840" y="4211640"/>
                <a:ext cx="1168920" cy="821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15640" y="4380120"/>
                <a:ext cx="550800" cy="44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965280" y="426744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965280" y="477396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69480" y="476280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69480" y="425628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492960" y="4267440"/>
                <a:ext cx="20196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1440" y="4368960"/>
                <a:ext cx="7848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6886080" y="4886640"/>
                <a:ext cx="15732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flipV="1">
                <a:off x="6414120" y="4672440"/>
                <a:ext cx="5616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7541640" y="4211640"/>
              <a:ext cx="1168920" cy="850680"/>
              <a:chOff x="7541640" y="4211640"/>
              <a:chExt cx="1168920" cy="850680"/>
            </a:xfrm>
          </p:grpSpPr>
          <p:sp>
            <p:nvSpPr>
              <p:cNvPr id="105" name=""/>
              <p:cNvSpPr/>
              <p:nvPr/>
            </p:nvSpPr>
            <p:spPr>
              <a:xfrm>
                <a:off x="7541640" y="4211640"/>
                <a:ext cx="1168920" cy="820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979760" y="4413960"/>
                <a:ext cx="460800" cy="47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81280" y="428040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38320" y="4550040"/>
                <a:ext cx="259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81280" y="483012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811280" y="456012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013600" y="4312440"/>
                <a:ext cx="21312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8508240" y="4481280"/>
                <a:ext cx="44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8226720" y="4930920"/>
                <a:ext cx="21348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7878960" y="4661280"/>
                <a:ext cx="5580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41640" y="4211640"/>
                <a:ext cx="1168920" cy="820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979760" y="4413960"/>
                <a:ext cx="460800" cy="47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081280" y="428040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338320" y="4550040"/>
                <a:ext cx="259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081280" y="483120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11280" y="456156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013600" y="4312440"/>
                <a:ext cx="21312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8508240" y="4481280"/>
                <a:ext cx="44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8226720" y="4930920"/>
                <a:ext cx="21348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7878960" y="4661280"/>
                <a:ext cx="5580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7275600" y="4501440"/>
              <a:ext cx="376560" cy="361080"/>
            </a:xfrm>
            <a:prstGeom prst="rightArrow">
              <a:avLst>
                <a:gd name="adj1" fmla="val 33852"/>
                <a:gd name="adj2" fmla="val 57981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804000" y="2755800"/>
            <a:ext cx="2340000" cy="110196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316400" y="2851200"/>
            <a:ext cx="2163600" cy="817560"/>
            <a:chOff x="4316400" y="2851200"/>
            <a:chExt cx="2163600" cy="817560"/>
          </a:xfrm>
        </p:grpSpPr>
        <p:graphicFrame>
          <p:nvGraphicFramePr>
            <p:cNvPr id="128" name=""/>
            <p:cNvGraphicFramePr/>
            <p:nvPr/>
          </p:nvGraphicFramePr>
          <p:xfrm>
            <a:off x="4316400" y="2851200"/>
            <a:ext cx="2163600" cy="817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16400" y="2851200"/>
                      <a:ext cx="2163600" cy="8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"/>
            <p:cNvGraphicFramePr/>
            <p:nvPr/>
          </p:nvGraphicFramePr>
          <p:xfrm>
            <a:off x="5173560" y="3156120"/>
            <a:ext cx="493920" cy="411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73560" y="3156120"/>
                      <a:ext cx="493920" cy="411120"/>
                    </a:xfrm>
                    <a:prstGeom prst="rect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 flipH="1">
              <a:off x="4677840" y="3273480"/>
              <a:ext cx="466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7666200" y="5173560"/>
            <a:ext cx="657000" cy="838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5300640" y="5079960"/>
            <a:ext cx="1400040" cy="892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6543720" y="5003640"/>
            <a:ext cx="115884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レイヤーを用いたアニメ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1018800"/>
            <a:ext cx="834372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レイヤー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１つのステージ上に、透明のフィルムが複数用意されており、それぞれにアニメーションを記述できる。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hotoshop,Illustrato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等のレイヤーの概念と同じ。セルアニメではセル）多くのアニメーションでは、背景、出演人物、キャラクター、動作等、それぞれ専用のレイヤーを用意し描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は制作するアニメーションの種類と動作に応じて、レイヤーに分割し、動作を記述してください。（基本はレイヤー１つに対し、１つの部分の動き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レームアニメ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モーショントゥーインアニメーション　：　１つのシンボルの平行移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ガイドレイヤー　：　２つのレイヤーで１つの動きの記述（ガイドの描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ェイプトゥイーンアニメーション　：　１つのレイヤーで１つのアニメ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制作手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方法１：既にあるレイヤーの上で右クリック→レイヤーの挿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方法２：レイヤーの下にある「レイヤーの追加」ボタ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制作演習１　右図のようなアニメーションを作りな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スキル：レイヤー、モーショントゥーイン（ガイドレイヤー）、シェイプトゥイー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双子山にしなさ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280280" y="4081320"/>
          <a:ext cx="1730520" cy="10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0280" y="4081320"/>
                    <a:ext cx="17305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7432560" y="4889520"/>
            <a:ext cx="1577880" cy="787320"/>
            <a:chOff x="7432560" y="4889520"/>
            <a:chExt cx="1577880" cy="787320"/>
          </a:xfrm>
        </p:grpSpPr>
        <p:graphicFrame>
          <p:nvGraphicFramePr>
            <p:cNvPr id="141" name=""/>
            <p:cNvGraphicFramePr/>
            <p:nvPr/>
          </p:nvGraphicFramePr>
          <p:xfrm>
            <a:off x="7454520" y="4889520"/>
            <a:ext cx="1555920" cy="768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454520" y="4889520"/>
                      <a:ext cx="1555920" cy="7682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8070480" y="5235480"/>
            <a:ext cx="50184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70480" y="5235480"/>
                      <a:ext cx="501840" cy="4064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>
              <a:off x="7432560" y="5438880"/>
              <a:ext cx="276120" cy="237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08680" y="5448240"/>
              <a:ext cx="342720" cy="66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277040" y="-291960"/>
            <a:ext cx="2324160" cy="1536120"/>
            <a:chOff x="7277040" y="-291960"/>
            <a:chExt cx="2324160" cy="1536120"/>
          </a:xfrm>
        </p:grpSpPr>
        <p:grpSp>
          <p:nvGrpSpPr>
            <p:cNvPr id="148" name=""/>
            <p:cNvGrpSpPr/>
            <p:nvPr/>
          </p:nvGrpSpPr>
          <p:grpSpPr>
            <a:xfrm>
              <a:off x="7277040" y="349200"/>
              <a:ext cx="2324160" cy="894960"/>
              <a:chOff x="7277040" y="349200"/>
              <a:chExt cx="2324160" cy="894960"/>
            </a:xfrm>
          </p:grpSpPr>
          <p:sp>
            <p:nvSpPr>
              <p:cNvPr id="149" name=""/>
              <p:cNvSpPr/>
              <p:nvPr/>
            </p:nvSpPr>
            <p:spPr>
              <a:xfrm>
                <a:off x="7277040" y="349200"/>
                <a:ext cx="2324160" cy="894960"/>
              </a:xfrm>
              <a:custGeom>
                <a:avLst/>
                <a:gdLst/>
                <a:ahLst/>
                <a:rect l="l" t="t" r="r" b="b"/>
                <a:pathLst>
                  <a:path w="1992" h="1032">
                    <a:moveTo>
                      <a:pt x="792" y="0"/>
                    </a:moveTo>
                    <a:lnTo>
                      <a:pt x="0" y="588"/>
                    </a:lnTo>
                    <a:lnTo>
                      <a:pt x="1188" y="1032"/>
                    </a:lnTo>
                    <a:lnTo>
                      <a:pt x="1992" y="408"/>
                    </a:lnTo>
                    <a:lnTo>
                      <a:pt x="7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209000">
                <a:off x="7610040" y="70092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7277040" y="31680"/>
              <a:ext cx="2324160" cy="982800"/>
              <a:chOff x="7277040" y="31680"/>
              <a:chExt cx="2324160" cy="982800"/>
            </a:xfrm>
          </p:grpSpPr>
          <p:sp>
            <p:nvSpPr>
              <p:cNvPr id="152" name=""/>
              <p:cNvSpPr/>
              <p:nvPr/>
            </p:nvSpPr>
            <p:spPr>
              <a:xfrm>
                <a:off x="7277040" y="31680"/>
                <a:ext cx="2324160" cy="894960"/>
              </a:xfrm>
              <a:custGeom>
                <a:avLst/>
                <a:gdLst/>
                <a:ahLst/>
                <a:rect l="l" t="t" r="r" b="b"/>
                <a:pathLst>
                  <a:path w="1992" h="1032">
                    <a:moveTo>
                      <a:pt x="792" y="0"/>
                    </a:moveTo>
                    <a:lnTo>
                      <a:pt x="0" y="588"/>
                    </a:lnTo>
                    <a:lnTo>
                      <a:pt x="1188" y="1032"/>
                    </a:lnTo>
                    <a:lnTo>
                      <a:pt x="1992" y="408"/>
                    </a:lnTo>
                    <a:lnTo>
                      <a:pt x="7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944400">
                <a:off x="7574760" y="472680"/>
                <a:ext cx="1330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登場人物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277040" y="-291960"/>
              <a:ext cx="2324160" cy="984600"/>
              <a:chOff x="7277040" y="-291960"/>
              <a:chExt cx="2324160" cy="984600"/>
            </a:xfrm>
          </p:grpSpPr>
          <p:sp>
            <p:nvSpPr>
              <p:cNvPr id="155" name=""/>
              <p:cNvSpPr/>
              <p:nvPr/>
            </p:nvSpPr>
            <p:spPr>
              <a:xfrm>
                <a:off x="7277040" y="-291960"/>
                <a:ext cx="2324160" cy="894960"/>
              </a:xfrm>
              <a:custGeom>
                <a:avLst/>
                <a:gdLst/>
                <a:ahLst/>
                <a:rect l="l" t="t" r="r" b="b"/>
                <a:pathLst>
                  <a:path w="1992" h="1032">
                    <a:moveTo>
                      <a:pt x="792" y="0"/>
                    </a:moveTo>
                    <a:lnTo>
                      <a:pt x="0" y="588"/>
                    </a:lnTo>
                    <a:lnTo>
                      <a:pt x="1188" y="1032"/>
                    </a:lnTo>
                    <a:lnTo>
                      <a:pt x="1992" y="408"/>
                    </a:lnTo>
                    <a:lnTo>
                      <a:pt x="7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881400">
                <a:off x="7568640" y="161280"/>
                <a:ext cx="133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登場人物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7031160" y="6076800"/>
            <a:ext cx="2112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スクレイヤ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マスクレイヤー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スクレイヤーはステージ上に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ある種の窓を用意し、その窓の中だけを表示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制作手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準備：ステージ上に何か映像を用意（レイヤー名：背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手順１：上記ステージの上にレイヤーを用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レイヤー名：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手順２：窓レイヤーに図形の描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手順３：図形レイヤーを右クリック→マスクの選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修正手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手順１：マスクレイヤーを右クリック→全てを表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手順２：マスクレイヤーの調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手順３：マスクを表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動くマ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スクレイヤーに描画する図形は、シンボル、シェイプ、特に依存しない。また、マスクレイヤーにて通常のアニメーションも可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制作演習２－１：背景レイヤーに様々な図形を描き、窓レイヤーに○を描きなさい。窓レイヤーをマスクレイヤーとしな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制作演習２－２：マスクレイヤーの図形をアニメーションとし、マスクレイヤーを用いた表現の可能性について調べな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38840" y="3765600"/>
            <a:ext cx="306072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5810400" y="358920"/>
          <a:ext cx="101124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10400" y="358920"/>
                    <a:ext cx="10112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961320" y="376200"/>
          <a:ext cx="1003320" cy="134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61320" y="376200"/>
                    <a:ext cx="10033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8096400" y="355680"/>
          <a:ext cx="990360" cy="131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96400" y="355680"/>
                    <a:ext cx="990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エフェ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ラーエフェク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フェードイン、フェードアウ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ンボルのプロパティとして、明度、着色、アルファ、詳細がある。この利用により映像効果を表現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ェードイン、フェードアウト：映像効果としてシーンの変わり目に多く用いられる。シンボルのアルファの利用により実現可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制作手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準備段階：シンボルを用いたモーショントゥイーンを用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手順１：モーショントゥイーンの第一フレームを選択→選択ツールにてステージ上のシンボルの選択→プロパティ→カラー→アルファを選択→％を０％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手順２：モーショントゥイーンの最終フレームを選択→選択ツールにてステージ上のシンボルの選択→プロパティ→カラー→アルファを選択→％を１００％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演習３　シンボルがフェードイン、フェードアウトを繰り返すアニメーションの制作をしな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96080" y="272880"/>
            <a:ext cx="11430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5783400" y="2544840"/>
          <a:ext cx="2933640" cy="4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83400" y="2544840"/>
                    <a:ext cx="2933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提出課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6760" y="1018800"/>
            <a:ext cx="8594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　下記の課題に取り組みなさい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なお、下記の内容に適合して無くても、独自テーマに沿った中で、本日学習したスキルが盛り込まれたアニメーションでも提出は認めます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課題１、道、又は山の稜線を物体が移動するアニメーションを制作しなさい。スキル：ガイドレイヤー、レイヤ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課題２、マスクレイヤーを用い、課題１のアニメーションで移動物体と周りだけが表示されるアニメーションを作り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課題３、上記アニメーションの最後で、オブジェクトがフェードアウトさせ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保存：自分の記録用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提出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「ファイル」→「書き出し」→「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ムービー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書き出し」→「アニメー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2:19:04Z</dcterms:created>
  <dc:creator>atlabo</dc:creator>
  <dc:description/>
  <dc:language>en-US</dc:language>
  <cp:lastModifiedBy>atlabo</cp:lastModifiedBy>
  <dcterms:modified xsi:type="dcterms:W3CDTF">2006-08-22T06:05:56Z</dcterms:modified>
  <cp:revision>705</cp:revision>
  <dc:subject/>
  <dc:title>ドキュメントデザイン２</dc:title>
</cp:coreProperties>
</file>