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B285-F446-48F7-A9A6-21421542E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0B33-DF5C-4251-9DF5-C65D4E9D8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3781-0EAE-46E0-95E4-CB18B5FBA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2B10-6925-492D-AA7A-9C4F5E61D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35FB-C516-46D9-A39D-8C9732A89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903D-20F4-41BE-93F5-0F9EB9C14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2ED2-9C99-45B3-9734-986FB41ED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DBCA-79F1-4BA8-A839-57B2895C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71E8-118E-401A-B7AF-A0B71D5D7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1969-3A24-4121-B905-5496D7DF8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1A8F-E6E9-43BE-B6FC-86C0E3A20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6F8A-3037-4100-AD9C-35944AAF3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19D-A8BC-4C3D-90B6-D5C380C42216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26960" y="1390680"/>
          <a:ext cx="8307000" cy="5413320"/>
        </p:xfrm>
        <a:graphic>
          <a:graphicData uri="http://schemas.openxmlformats.org/drawingml/2006/table">
            <a:tbl>
              <a:tblPr/>
              <a:tblGrid>
                <a:gridCol w="520560"/>
                <a:gridCol w="323640"/>
                <a:gridCol w="3556800"/>
                <a:gridCol w="541080"/>
                <a:gridCol w="33649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/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発表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314280" y="2881440"/>
            <a:ext cx="8539200" cy="8301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アニメーションを用いて、下記のテーマにそってアニメーションを作り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１　テーマ：にらめっ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課題　テーマ　歩く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保存：自分の記録用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提出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ファイル」→「書き出し」→「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ムービ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書き出し」→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もイイかな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基本図形の描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ンボル、インスタン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グループ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絵かきのコ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絵を描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塗り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学生の作品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保存形式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94440" y="473040"/>
          <a:ext cx="35352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4440" y="473040"/>
                    <a:ext cx="3535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ニメーション制作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160" y="1018800"/>
            <a:ext cx="8729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のアニメーション制作に入る前にアニメーション制作について、解説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制作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企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トリーテリング（脚本等）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映像制作　シナリ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トーリーボードの作成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映像制作　絵コンテ、字コンテ）　４コマ漫画で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脚本のビジュアル化、一連の画像および制作用のメモ書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ャラクターの設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外形、シルエット、内部構造、性格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制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動作テストの繰り返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アフレコ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（声優さん等の音録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MultiAudio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（マルチオーディオ 音と映像を合わせる）→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Mix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プレゼンテーション（顧客へのプレテス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納品、放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大切な事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ストーリーのあるアニメーション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視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制作者の視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視聴者の視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映像の起承転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シーンの流れ、ストーリー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W1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人に伝えるた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n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いつ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re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どこ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誰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at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に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w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どのよう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04000" y="2889360"/>
            <a:ext cx="2021040" cy="2609640"/>
            <a:chOff x="6804000" y="2889360"/>
            <a:chExt cx="2021040" cy="2609640"/>
          </a:xfrm>
        </p:grpSpPr>
        <p:sp>
          <p:nvSpPr>
            <p:cNvPr id="60" name=""/>
            <p:cNvSpPr/>
            <p:nvPr/>
          </p:nvSpPr>
          <p:spPr>
            <a:xfrm>
              <a:off x="6804000" y="2889360"/>
              <a:ext cx="2021040" cy="26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873840" y="2976480"/>
              <a:ext cx="863640" cy="2457360"/>
              <a:chOff x="6873840" y="2976480"/>
              <a:chExt cx="863640" cy="2457360"/>
            </a:xfrm>
          </p:grpSpPr>
          <p:sp>
            <p:nvSpPr>
              <p:cNvPr id="62" name=""/>
              <p:cNvSpPr/>
              <p:nvPr/>
            </p:nvSpPr>
            <p:spPr>
              <a:xfrm>
                <a:off x="6891120" y="2976480"/>
                <a:ext cx="846360" cy="58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87160" y="3605400"/>
                <a:ext cx="846360" cy="58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7160" y="4227840"/>
                <a:ext cx="846360" cy="58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4849200"/>
                <a:ext cx="846360" cy="58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7804080" y="3110040"/>
              <a:ext cx="892080" cy="414360"/>
              <a:chOff x="7804080" y="3110040"/>
              <a:chExt cx="892080" cy="414360"/>
            </a:xfrm>
          </p:grpSpPr>
          <p:sp>
            <p:nvSpPr>
              <p:cNvPr id="67" name=""/>
              <p:cNvSpPr/>
              <p:nvPr/>
            </p:nvSpPr>
            <p:spPr>
              <a:xfrm>
                <a:off x="7808760" y="311004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804080" y="325116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804080" y="339264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810560" y="3524400"/>
                <a:ext cx="88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819920" y="3706920"/>
              <a:ext cx="892080" cy="414360"/>
              <a:chOff x="7819920" y="3706920"/>
              <a:chExt cx="892080" cy="414360"/>
            </a:xfrm>
          </p:grpSpPr>
          <p:sp>
            <p:nvSpPr>
              <p:cNvPr id="72" name=""/>
              <p:cNvSpPr/>
              <p:nvPr/>
            </p:nvSpPr>
            <p:spPr>
              <a:xfrm>
                <a:off x="7824600" y="370692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19920" y="384804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19920" y="398952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826400" y="4121280"/>
                <a:ext cx="88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816680" y="4341960"/>
              <a:ext cx="892080" cy="414360"/>
              <a:chOff x="7816680" y="4341960"/>
              <a:chExt cx="892080" cy="414360"/>
            </a:xfrm>
          </p:grpSpPr>
          <p:sp>
            <p:nvSpPr>
              <p:cNvPr id="77" name=""/>
              <p:cNvSpPr/>
              <p:nvPr/>
            </p:nvSpPr>
            <p:spPr>
              <a:xfrm>
                <a:off x="7821360" y="434196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16680" y="448308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16680" y="462456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23160" y="4756320"/>
                <a:ext cx="88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804080" y="4948200"/>
              <a:ext cx="892080" cy="414360"/>
              <a:chOff x="7804080" y="4948200"/>
              <a:chExt cx="892080" cy="414360"/>
            </a:xfrm>
          </p:grpSpPr>
          <p:sp>
            <p:nvSpPr>
              <p:cNvPr id="82" name=""/>
              <p:cNvSpPr/>
              <p:nvPr/>
            </p:nvSpPr>
            <p:spPr>
              <a:xfrm>
                <a:off x="7808760" y="494820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804080" y="508932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04080" y="5230800"/>
                <a:ext cx="88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10560" y="5362560"/>
                <a:ext cx="88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アニメーション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animation]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動作や形が少しずつ異なる多くの絵や人形を一齣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とこ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ずつ撮影し、映写した時に画像が連続して動いて見えるようにするもの。ビデ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レコーダーによるものやコンピュータ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フィックスを応用するものもある。アニメ。動画。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三省堂提供「大辞林 第二版」より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go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辞書より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を同位置に連続して表示する事で、動いて見える映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パラパラアニメが身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用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p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frame per second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一秒間に再生するフレーム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TSC 30fps(29.97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走査線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2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本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映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4f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DT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Definition TeleVi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60fp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走査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12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125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本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6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33880" y="3502080"/>
            <a:ext cx="4147920" cy="863640"/>
            <a:chOff x="3233880" y="3502080"/>
            <a:chExt cx="4147920" cy="863640"/>
          </a:xfrm>
        </p:grpSpPr>
        <p:sp>
          <p:nvSpPr>
            <p:cNvPr id="89" name=""/>
            <p:cNvSpPr/>
            <p:nvPr/>
          </p:nvSpPr>
          <p:spPr>
            <a:xfrm>
              <a:off x="3233880" y="4014720"/>
              <a:ext cx="41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0280" y="3502080"/>
              <a:ext cx="73692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75320" y="3516480"/>
              <a:ext cx="736560" cy="84744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24520" y="3517920"/>
              <a:ext cx="73656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57520" y="397188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8360" y="376884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45200" y="357840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548160" y="4257720"/>
              <a:ext cx="5688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583080" y="4282920"/>
              <a:ext cx="56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503160" y="4232160"/>
              <a:ext cx="572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839840" y="40356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874760" y="40608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95560" y="401004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4080" y="38322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129000" y="385776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49440" y="38070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937200" y="408132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時間軸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タイムライ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09960" y="4394160"/>
            <a:ext cx="3629160" cy="433440"/>
            <a:chOff x="3909960" y="4394160"/>
            <a:chExt cx="3629160" cy="433440"/>
          </a:xfrm>
        </p:grpSpPr>
        <p:sp>
          <p:nvSpPr>
            <p:cNvPr id="107" name=""/>
            <p:cNvSpPr/>
            <p:nvPr/>
          </p:nvSpPr>
          <p:spPr>
            <a:xfrm>
              <a:off x="6087960" y="4394160"/>
              <a:ext cx="246240" cy="20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8520" y="4408560"/>
              <a:ext cx="1226880" cy="22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09960" y="4402080"/>
              <a:ext cx="2386080" cy="26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89560" y="445932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フレー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ニメーション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ーフレーム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Key Frame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の基本的な手法の一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一連の動きの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キ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なる瞬間を基準に動きを定義する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ビトゥーイ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割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の間を埋めるフレー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割フレー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作成する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従来のアニメーションでは、手作業で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では補完という技術を使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ポイント、補完曲線を元に、動き、形状等の補完を行い、中割りフレームの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75320" y="663480"/>
            <a:ext cx="1687320" cy="1152360"/>
            <a:chOff x="6475320" y="663480"/>
            <a:chExt cx="1687320" cy="1152360"/>
          </a:xfrm>
        </p:grpSpPr>
        <p:sp>
          <p:nvSpPr>
            <p:cNvPr id="114" name=""/>
            <p:cNvSpPr/>
            <p:nvPr/>
          </p:nvSpPr>
          <p:spPr>
            <a:xfrm>
              <a:off x="6475320" y="663480"/>
              <a:ext cx="1687320" cy="115236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9320" y="1253160"/>
              <a:ext cx="348120" cy="34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3720" y="793080"/>
              <a:ext cx="348120" cy="34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6440" y="1273680"/>
              <a:ext cx="348120" cy="34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777360" y="1120680"/>
              <a:ext cx="30024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9840" y="1013040"/>
              <a:ext cx="27612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2800" y="2203560"/>
            <a:ext cx="8431200" cy="885600"/>
            <a:chOff x="712800" y="2203560"/>
            <a:chExt cx="8431200" cy="885600"/>
          </a:xfrm>
        </p:grpSpPr>
        <p:sp>
          <p:nvSpPr>
            <p:cNvPr id="121" name=""/>
            <p:cNvSpPr/>
            <p:nvPr/>
          </p:nvSpPr>
          <p:spPr>
            <a:xfrm>
              <a:off x="1050840" y="2724120"/>
              <a:ext cx="74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17600" y="2211480"/>
              <a:ext cx="73656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5840" y="2225520"/>
              <a:ext cx="73656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10040" y="2227320"/>
              <a:ext cx="73656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74840" y="268128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8880" y="247824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0720" y="2287440"/>
              <a:ext cx="276120" cy="276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64760" y="296712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399680" y="2992320"/>
              <a:ext cx="572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320480" y="2941560"/>
              <a:ext cx="572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90360" y="2744640"/>
              <a:ext cx="572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825280" y="27702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746080" y="271944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179600" y="254160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214520" y="2567160"/>
              <a:ext cx="572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34960" y="2516040"/>
              <a:ext cx="572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29360" y="2217600"/>
              <a:ext cx="736560" cy="84780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2400" y="247032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391360" y="2360880"/>
              <a:ext cx="100440" cy="132120"/>
              <a:chOff x="5391360" y="2360880"/>
              <a:chExt cx="100440" cy="132120"/>
            </a:xfrm>
          </p:grpSpPr>
          <p:sp>
            <p:nvSpPr>
              <p:cNvPr id="140" name=""/>
              <p:cNvSpPr/>
              <p:nvPr/>
            </p:nvSpPr>
            <p:spPr>
              <a:xfrm flipH="1" flipV="1">
                <a:off x="5423760" y="2398320"/>
                <a:ext cx="3348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391360" y="2426400"/>
                <a:ext cx="33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5458680" y="2360880"/>
                <a:ext cx="33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483240" y="2203560"/>
              <a:ext cx="736560" cy="847440"/>
            </a:xfrm>
            <a:prstGeom prst="foldedCorner">
              <a:avLst>
                <a:gd name="adj" fmla="val 30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19840" y="2671920"/>
              <a:ext cx="276120" cy="27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778800" y="2562480"/>
              <a:ext cx="100440" cy="132120"/>
              <a:chOff x="6778800" y="2562480"/>
              <a:chExt cx="100440" cy="132120"/>
            </a:xfrm>
          </p:grpSpPr>
          <p:sp>
            <p:nvSpPr>
              <p:cNvPr id="146" name=""/>
              <p:cNvSpPr/>
              <p:nvPr/>
            </p:nvSpPr>
            <p:spPr>
              <a:xfrm flipH="1" flipV="1">
                <a:off x="6811200" y="2599920"/>
                <a:ext cx="3348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6778800" y="2628000"/>
                <a:ext cx="33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6846120" y="2562480"/>
                <a:ext cx="33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674120" y="238752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タイムライ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2800" y="272088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31040" y="26701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40040" y="2964960"/>
            <a:ext cx="4682880" cy="673560"/>
            <a:chOff x="1940040" y="2964960"/>
            <a:chExt cx="4682880" cy="673560"/>
          </a:xfrm>
        </p:grpSpPr>
        <p:sp>
          <p:nvSpPr>
            <p:cNvPr id="153" name=""/>
            <p:cNvSpPr/>
            <p:nvPr/>
          </p:nvSpPr>
          <p:spPr>
            <a:xfrm>
              <a:off x="3957120" y="32702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Arial"/>
                </a:rPr>
                <a:t>キー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となる瞬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940040" y="3033720"/>
              <a:ext cx="178416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014360" y="2967120"/>
              <a:ext cx="31284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237200" y="2964960"/>
              <a:ext cx="238572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81320" y="3635280"/>
            <a:ext cx="758880" cy="401760"/>
          </a:xfrm>
          <a:prstGeom prst="downArrow">
            <a:avLst>
              <a:gd name="adj1" fmla="val 49787"/>
              <a:gd name="adj2" fmla="val 6363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00320" y="399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52520" y="2943360"/>
            <a:ext cx="4386240" cy="1171440"/>
            <a:chOff x="2252520" y="2943360"/>
            <a:chExt cx="4386240" cy="1171440"/>
          </a:xfrm>
        </p:grpSpPr>
        <p:sp>
          <p:nvSpPr>
            <p:cNvPr id="160" name=""/>
            <p:cNvSpPr/>
            <p:nvPr/>
          </p:nvSpPr>
          <p:spPr>
            <a:xfrm flipH="1">
              <a:off x="2609640" y="2943360"/>
              <a:ext cx="24444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2989440"/>
              <a:ext cx="312840" cy="8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52520" y="374652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中割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7760" y="374004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中割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19160"/>
            <a:ext cx="6603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ーツ作り→シーン作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ンボル、インスタンス、オブジェクト、グ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レイヤー：フィルムとしての重なり合わ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重ね順：レイヤー内でのオブジェクト等の重なり合わ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面構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タイムライン、レイヤーの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アニメーションの種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モーショントゥーインアニメ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ェイプトゥイーンアニメ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91280" y="2695680"/>
            <a:ext cx="23875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0" y="5133960"/>
            <a:ext cx="2565360" cy="1512720"/>
            <a:chOff x="0" y="5133960"/>
            <a:chExt cx="2565360" cy="1512720"/>
          </a:xfrm>
        </p:grpSpPr>
        <p:sp>
          <p:nvSpPr>
            <p:cNvPr id="168" name=""/>
            <p:cNvSpPr/>
            <p:nvPr/>
          </p:nvSpPr>
          <p:spPr>
            <a:xfrm flipV="1">
              <a:off x="75960" y="5883120"/>
              <a:ext cx="248940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5133960"/>
              <a:ext cx="685800" cy="111924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55600" y="5235480"/>
              <a:ext cx="685800" cy="111924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6880" y="5413320"/>
              <a:ext cx="685800" cy="111924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527440"/>
              <a:ext cx="685800" cy="1119240"/>
            </a:xfrm>
            <a:custGeom>
              <a:avLst/>
              <a:gdLst/>
              <a:ahLst/>
              <a:rect l="l" t="t" r="r" b="b"/>
              <a:pathLst>
                <a:path w="432" h="705">
                  <a:moveTo>
                    <a:pt x="0" y="0"/>
                  </a:moveTo>
                  <a:lnTo>
                    <a:pt x="0" y="456"/>
                  </a:lnTo>
                  <a:lnTo>
                    <a:pt x="432" y="705"/>
                  </a:lnTo>
                  <a:lnTo>
                    <a:pt x="43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3040" y="5807160"/>
              <a:ext cx="254160" cy="4442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39600" y="5692680"/>
              <a:ext cx="254160" cy="44460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60520" y="5718240"/>
              <a:ext cx="253800" cy="4442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06640" y="5375160"/>
              <a:ext cx="253800" cy="444600"/>
            </a:xfrm>
            <a:prstGeom prst="smileyFace">
              <a:avLst>
                <a:gd name="adj" fmla="val -4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77920" y="652140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アニメーショ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797200" y="5514840"/>
            <a:ext cx="3184560" cy="1343880"/>
            <a:chOff x="2797200" y="5514840"/>
            <a:chExt cx="3184560" cy="1343880"/>
          </a:xfrm>
        </p:grpSpPr>
        <p:grpSp>
          <p:nvGrpSpPr>
            <p:cNvPr id="179" name=""/>
            <p:cNvGrpSpPr/>
            <p:nvPr/>
          </p:nvGrpSpPr>
          <p:grpSpPr>
            <a:xfrm>
              <a:off x="3016080" y="5524560"/>
              <a:ext cx="1193760" cy="952560"/>
              <a:chOff x="3016080" y="5524560"/>
              <a:chExt cx="1193760" cy="952560"/>
            </a:xfrm>
          </p:grpSpPr>
          <p:sp>
            <p:nvSpPr>
              <p:cNvPr id="180" name=""/>
              <p:cNvSpPr/>
              <p:nvPr/>
            </p:nvSpPr>
            <p:spPr>
              <a:xfrm>
                <a:off x="3016080" y="552456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43160" y="601992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320640" y="598140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16080" y="552456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43160" y="6019920"/>
                <a:ext cx="469800" cy="40608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320640" y="5981400"/>
                <a:ext cx="5716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389480" y="5514840"/>
              <a:ext cx="1193760" cy="952560"/>
              <a:chOff x="4389480" y="5514840"/>
              <a:chExt cx="1193760" cy="952560"/>
            </a:xfrm>
          </p:grpSpPr>
          <p:sp>
            <p:nvSpPr>
              <p:cNvPr id="187" name=""/>
              <p:cNvSpPr/>
              <p:nvPr/>
            </p:nvSpPr>
            <p:spPr>
              <a:xfrm>
                <a:off x="4389480" y="551484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37120" y="567972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808520" y="587016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89480" y="5514840"/>
                <a:ext cx="1193760" cy="952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37120" y="5679720"/>
                <a:ext cx="469800" cy="406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808520" y="5870160"/>
                <a:ext cx="469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797200" y="6521400"/>
              <a:ext cx="31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モーショントゥーインアニメーショ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3360" y="5829480"/>
              <a:ext cx="425160" cy="407880"/>
            </a:xfrm>
            <a:prstGeom prst="rightArrow">
              <a:avLst>
                <a:gd name="adj1" fmla="val 33852"/>
                <a:gd name="adj2" fmla="val 5795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154560" y="5522760"/>
            <a:ext cx="3195720" cy="1335960"/>
            <a:chOff x="6154560" y="5522760"/>
            <a:chExt cx="3195720" cy="1335960"/>
          </a:xfrm>
        </p:grpSpPr>
        <p:grpSp>
          <p:nvGrpSpPr>
            <p:cNvPr id="196" name=""/>
            <p:cNvGrpSpPr/>
            <p:nvPr/>
          </p:nvGrpSpPr>
          <p:grpSpPr>
            <a:xfrm>
              <a:off x="6154560" y="5522760"/>
              <a:ext cx="1320840" cy="927000"/>
              <a:chOff x="6154560" y="5522760"/>
              <a:chExt cx="1320840" cy="927000"/>
            </a:xfrm>
          </p:grpSpPr>
          <p:sp>
            <p:nvSpPr>
              <p:cNvPr id="197" name=""/>
              <p:cNvSpPr/>
              <p:nvPr/>
            </p:nvSpPr>
            <p:spPr>
              <a:xfrm>
                <a:off x="6154560" y="5522760"/>
                <a:ext cx="1320840" cy="927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2840" y="5713200"/>
                <a:ext cx="622440" cy="50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30800" y="558612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30800" y="615780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57600" y="614520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57600" y="557352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497280" y="5585760"/>
                <a:ext cx="22860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96040" y="5700600"/>
                <a:ext cx="88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941880" y="6284880"/>
                <a:ext cx="17784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6408000" y="6042960"/>
                <a:ext cx="637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54560" y="5522760"/>
                <a:ext cx="1320840" cy="927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22840" y="5713200"/>
                <a:ext cx="622440" cy="50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30800" y="558612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30800" y="615780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7600" y="614520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57600" y="557352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497280" y="5585760"/>
                <a:ext cx="22860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96040" y="5700600"/>
                <a:ext cx="88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941880" y="6284880"/>
                <a:ext cx="17784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6408000" y="6042960"/>
                <a:ext cx="637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682040" y="5522760"/>
              <a:ext cx="1320840" cy="929520"/>
              <a:chOff x="7682040" y="5522760"/>
              <a:chExt cx="1320840" cy="929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682040" y="5522760"/>
                <a:ext cx="1320840" cy="927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77400" y="5751360"/>
                <a:ext cx="5209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291880" y="559872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583840" y="590364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91880" y="622116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86960" y="591624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15560" y="5636880"/>
                <a:ext cx="24120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8773920" y="5827320"/>
                <a:ext cx="507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8456400" y="6335280"/>
                <a:ext cx="2415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063280" y="6030360"/>
                <a:ext cx="63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82040" y="5522760"/>
                <a:ext cx="1320840" cy="927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77400" y="5751360"/>
                <a:ext cx="5209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291880" y="559872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583840" y="5903640"/>
                <a:ext cx="292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291880" y="622116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86960" y="5916240"/>
                <a:ext cx="291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215560" y="5636880"/>
                <a:ext cx="24120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773920" y="5827320"/>
                <a:ext cx="507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8456400" y="6335280"/>
                <a:ext cx="2415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8063280" y="6030360"/>
                <a:ext cx="63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199200" y="6521400"/>
              <a:ext cx="31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シェイプトゥイーンアニメーショ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81800" y="5850000"/>
              <a:ext cx="425520" cy="407880"/>
            </a:xfrm>
            <a:prstGeom prst="rightArrow">
              <a:avLst>
                <a:gd name="adj1" fmla="val 33852"/>
                <a:gd name="adj2" fmla="val 58001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029200" y="2959200"/>
            <a:ext cx="2911320" cy="1084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アニメーション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パラパラ漫画を作ろ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イムラインと表示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制作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キーフレームにお絵かき（シンボル化すること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追加したキーフレームの映像を変形、または新たにお絵か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843520" y="2119320"/>
          <a:ext cx="2394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3520" y="2119320"/>
                    <a:ext cx="2394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44280" y="1069920"/>
            <a:ext cx="7428240" cy="2008080"/>
            <a:chOff x="44280" y="1069920"/>
            <a:chExt cx="7428240" cy="2008080"/>
          </a:xfrm>
        </p:grpSpPr>
        <p:graphicFrame>
          <p:nvGraphicFramePr>
            <p:cNvPr id="246" name=""/>
            <p:cNvGraphicFramePr/>
            <p:nvPr/>
          </p:nvGraphicFramePr>
          <p:xfrm>
            <a:off x="2382840" y="1539720"/>
            <a:ext cx="2724120" cy="15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82840" y="1539720"/>
                      <a:ext cx="2724120" cy="15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2030400" y="1897200"/>
              <a:ext cx="7142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1720" y="1695600"/>
              <a:ext cx="14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タイムライ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280" y="2208240"/>
              <a:ext cx="22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制御パネル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ウィンドウメニューにある。制御メニュー→ループ再生を選択しておくと便利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43080" y="2541600"/>
              <a:ext cx="3110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05360" y="1943280"/>
              <a:ext cx="266760" cy="266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760" y="1069920"/>
              <a:ext cx="31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タイムラインの表示サイズの変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128920" y="1405080"/>
              <a:ext cx="26820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H="1" flipV="1">
            <a:off x="7916760" y="3033720"/>
            <a:ext cx="24624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6356520" y="3056040"/>
            <a:ext cx="1784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48560" y="33037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フレ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68800" y="1851120"/>
            <a:ext cx="3128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80200" y="1427040"/>
            <a:ext cx="187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レントフレー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在のフレー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667640" y="4959360"/>
            <a:ext cx="1409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アニメーション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パラパラ漫画を作ろ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作練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フレームにお絵かき（始めのシーン作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絵か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絵をシンボル化（パーツ化）　タイプ：ムービークリ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シンボルを用いたパーツの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フレームの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タイムライン上の任意の時間で「右クリック」→「キーフレームの挿入」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キーフレームが作られる（１のキーフレームと同様の画像をコピーされたキーフレームが作られ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追加したキーフレームの画像の変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自由変形ツ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ニオンスキンの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ニオンスキン：指定範囲のフレームを表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動作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練習１　４つ以上のキーフレーム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（４つのシーン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なるアニメーションを作りなさい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にらめっこ、４コマ漫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41880" y="3705120"/>
          <a:ext cx="19558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1880" y="3705120"/>
                    <a:ext cx="19558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8053560" y="3678120"/>
          <a:ext cx="799920" cy="10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53560" y="3678120"/>
                    <a:ext cx="79992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362640" y="4257720"/>
            <a:ext cx="295200" cy="4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648240"/>
            <a:ext cx="1600200" cy="4572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105440"/>
            <a:ext cx="237960" cy="695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19920" y="47340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オニオンスキンの範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0" y="4524480"/>
            <a:ext cx="2523960" cy="295200"/>
          </a:xfrm>
          <a:custGeom>
            <a:avLst/>
            <a:gdLst/>
            <a:ahLst/>
            <a:rect l="l" t="t" r="r" b="b"/>
            <a:pathLst>
              <a:path w="1590" h="186">
                <a:moveTo>
                  <a:pt x="0" y="186"/>
                </a:moveTo>
                <a:lnTo>
                  <a:pt x="96" y="132"/>
                </a:lnTo>
                <a:lnTo>
                  <a:pt x="15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アニメーション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パラパラ漫画を作ろ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の長さの調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長さの延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ag&amp;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あるフレーム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延長したい所ま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右クリック→フレームを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長さを短く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ag&amp;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削除フレームを選択→右クリック→フレームの削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：一番後ろのフレームはカットしない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練習２　練習１で制作したアニメーション、各シーンの尺を調整し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113360" y="1349280"/>
          <a:ext cx="163512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3360" y="1349280"/>
                    <a:ext cx="16351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 flipH="1">
            <a:off x="5232240" y="1963800"/>
            <a:ext cx="292320" cy="253800"/>
          </a:xfrm>
          <a:custGeom>
            <a:avLst/>
            <a:gdLst/>
            <a:ahLst/>
            <a:rect l="l" t="t" r="r" b="b"/>
            <a:pathLst>
              <a:path w="233" h="160">
                <a:moveTo>
                  <a:pt x="233" y="160"/>
                </a:moveTo>
                <a:lnTo>
                  <a:pt x="0" y="16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4:12Z</dcterms:modified>
  <cp:revision>456</cp:revision>
  <dc:subject/>
  <dc:title>ドキュメントデザイン２</dc:title>
</cp:coreProperties>
</file>