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4.png" ContentType="image/png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2F4E-5C84-41DC-8725-BD52C4D7E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0BCF-8678-43F6-AB0C-FE70DD6E0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F3E8-673A-4D52-A500-C12DEF738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0933-B7C7-4089-BCC8-9D73BB20C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E467-8AC6-46BA-A95C-522642EB8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8CBB-C978-4DFF-AEDB-EB43557C1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AB81-D67A-4765-AF0A-50971870F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5DE6-2AB3-4EDB-8BE9-DF4177E6B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92E6-8630-4E1C-9197-62A4A9390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0919-168B-403C-B63B-F40C520FD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170F-1D05-473F-8ACD-570E43D38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B56A-9A8E-4C35-8E4B-0602BCE82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36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E4FD-75B5-4356-A32F-7F0798E96D74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D2(200504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640" y="1000080"/>
            <a:ext cx="745308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bu.ac.jp/~tsuboku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790560"/>
            <a:ext cx="77342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ドキュメントデザイン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917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文理大学　坪倉篤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bu.ac.jp/~tsubo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2800" y="1392120"/>
          <a:ext cx="8307000" cy="5413320"/>
        </p:xfrm>
        <a:graphic>
          <a:graphicData uri="http://schemas.openxmlformats.org/drawingml/2006/table">
            <a:tbl>
              <a:tblPr/>
              <a:tblGrid>
                <a:gridCol w="520560"/>
                <a:gridCol w="323640"/>
                <a:gridCol w="3556800"/>
                <a:gridCol w="541080"/>
                <a:gridCol w="336492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: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小テストと解説の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リエンテーショ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入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マー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開発プロセ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オーサリングツール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ンフォメーションアーキテクチ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キュリテ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～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後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まと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Per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JavaScri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AS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/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発表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　後半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-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期末試験：全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82600" y="4084560"/>
            <a:ext cx="8539200" cy="547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先週の復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38320" y="1018800"/>
            <a:ext cx="754848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制作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レイヤー）、フレーム、タイムライン、キーフレーム、カレントフレー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の種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モーショントゥーイン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ェイプトゥイーン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ェイプトゥイーンアニメーションの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スキル　シンボル、インスタンス、オブジェクト、グルー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保存形式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IF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3360" y="1058760"/>
          <a:ext cx="89712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058760"/>
                    <a:ext cx="897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1876320"/>
            <a:ext cx="1047600" cy="3841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60680"/>
            <a:ext cx="1047600" cy="6476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9760"/>
            <a:ext cx="500040" cy="3985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560" y="1279440"/>
            <a:ext cx="500040" cy="5796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4680" y="3575160"/>
            <a:ext cx="415800" cy="349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69840" y="3922560"/>
            <a:ext cx="1047600" cy="2935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315120" y="2031840"/>
            <a:ext cx="2434680" cy="1436400"/>
            <a:chOff x="6315120" y="2031840"/>
            <a:chExt cx="2434680" cy="1436400"/>
          </a:xfrm>
        </p:grpSpPr>
        <p:sp>
          <p:nvSpPr>
            <p:cNvPr id="56" name=""/>
            <p:cNvSpPr/>
            <p:nvPr/>
          </p:nvSpPr>
          <p:spPr>
            <a:xfrm flipV="1">
              <a:off x="6387120" y="2742840"/>
              <a:ext cx="2362680" cy="60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18200" y="203184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11680" y="212796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81400" y="229716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15120" y="240552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07720" y="2671200"/>
              <a:ext cx="241200" cy="4219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06840" y="2562480"/>
              <a:ext cx="241200" cy="422280"/>
            </a:xfrm>
            <a:prstGeom prst="smileyFace">
              <a:avLst>
                <a:gd name="adj" fmla="val -4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01120" y="2586600"/>
              <a:ext cx="240840" cy="4219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19520" y="2260800"/>
              <a:ext cx="240840" cy="422280"/>
            </a:xfrm>
            <a:prstGeom prst="smileyFace">
              <a:avLst>
                <a:gd name="adj" fmla="val -4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272280" y="4005360"/>
            <a:ext cx="2566440" cy="961920"/>
            <a:chOff x="6272280" y="4005360"/>
            <a:chExt cx="2566440" cy="961920"/>
          </a:xfrm>
        </p:grpSpPr>
        <p:grpSp>
          <p:nvGrpSpPr>
            <p:cNvPr id="66" name=""/>
            <p:cNvGrpSpPr/>
            <p:nvPr/>
          </p:nvGrpSpPr>
          <p:grpSpPr>
            <a:xfrm>
              <a:off x="6272280" y="4014720"/>
              <a:ext cx="1193760" cy="952560"/>
              <a:chOff x="6272280" y="4014720"/>
              <a:chExt cx="1193760" cy="952560"/>
            </a:xfrm>
          </p:grpSpPr>
          <p:sp>
            <p:nvSpPr>
              <p:cNvPr id="67" name=""/>
              <p:cNvSpPr/>
              <p:nvPr/>
            </p:nvSpPr>
            <p:spPr>
              <a:xfrm>
                <a:off x="6272280" y="401472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99360" y="451008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6576840" y="447156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72280" y="401472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99360" y="451008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6576840" y="447156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45320" y="4005360"/>
              <a:ext cx="1193400" cy="952560"/>
              <a:chOff x="7645320" y="4005360"/>
              <a:chExt cx="1193400" cy="952560"/>
            </a:xfrm>
          </p:grpSpPr>
          <p:sp>
            <p:nvSpPr>
              <p:cNvPr id="74" name=""/>
              <p:cNvSpPr/>
              <p:nvPr/>
            </p:nvSpPr>
            <p:spPr>
              <a:xfrm>
                <a:off x="7645320" y="4005360"/>
                <a:ext cx="119340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292600" y="4170240"/>
                <a:ext cx="46944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8064000" y="4360680"/>
                <a:ext cx="469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45320" y="4005360"/>
                <a:ext cx="119340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292600" y="4170240"/>
                <a:ext cx="46944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064000" y="4360680"/>
                <a:ext cx="469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369200" y="4319640"/>
              <a:ext cx="424800" cy="407880"/>
            </a:xfrm>
            <a:prstGeom prst="rightArrow">
              <a:avLst>
                <a:gd name="adj1" fmla="val 33852"/>
                <a:gd name="adj2" fmla="val 5790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296040" y="5194440"/>
            <a:ext cx="2520720" cy="850680"/>
            <a:chOff x="6296040" y="5194440"/>
            <a:chExt cx="2520720" cy="850680"/>
          </a:xfrm>
        </p:grpSpPr>
        <p:grpSp>
          <p:nvGrpSpPr>
            <p:cNvPr id="82" name=""/>
            <p:cNvGrpSpPr/>
            <p:nvPr/>
          </p:nvGrpSpPr>
          <p:grpSpPr>
            <a:xfrm>
              <a:off x="6296040" y="5194440"/>
              <a:ext cx="1168920" cy="820800"/>
              <a:chOff x="6296040" y="5194440"/>
              <a:chExt cx="1168920" cy="82080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040" y="5194440"/>
                <a:ext cx="1168920" cy="820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21840" y="5362920"/>
                <a:ext cx="550800" cy="44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71480" y="525024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71480" y="575640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75680" y="574524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75680" y="523908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6599160" y="5250240"/>
                <a:ext cx="20196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17640" y="5351760"/>
                <a:ext cx="7848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6992280" y="5869080"/>
                <a:ext cx="15732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6520320" y="5655240"/>
                <a:ext cx="5616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96040" y="5194440"/>
                <a:ext cx="1168920" cy="820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1840" y="5362920"/>
                <a:ext cx="550800" cy="44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71480" y="525024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071480" y="575640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75680" y="574524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75680" y="523908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599160" y="5250240"/>
                <a:ext cx="20196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17640" y="5351760"/>
                <a:ext cx="7848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992280" y="5869080"/>
                <a:ext cx="15732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6520320" y="5655240"/>
                <a:ext cx="5616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647840" y="5194440"/>
              <a:ext cx="1168920" cy="850680"/>
              <a:chOff x="7647840" y="5194440"/>
              <a:chExt cx="1168920" cy="850680"/>
            </a:xfrm>
          </p:grpSpPr>
          <p:sp>
            <p:nvSpPr>
              <p:cNvPr id="104" name=""/>
              <p:cNvSpPr/>
              <p:nvPr/>
            </p:nvSpPr>
            <p:spPr>
              <a:xfrm>
                <a:off x="7647840" y="5194440"/>
                <a:ext cx="1168920" cy="820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85960" y="5396760"/>
                <a:ext cx="460800" cy="47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87480" y="52632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44520" y="5532840"/>
                <a:ext cx="259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87480" y="581256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17480" y="554256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19800" y="5295240"/>
                <a:ext cx="21312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8614440" y="5463720"/>
                <a:ext cx="44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8332920" y="5913360"/>
                <a:ext cx="21348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7985160" y="5644080"/>
                <a:ext cx="5580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47840" y="5194440"/>
                <a:ext cx="1168920" cy="820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085960" y="5396760"/>
                <a:ext cx="460800" cy="47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187480" y="52632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44520" y="5532840"/>
                <a:ext cx="259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87480" y="58140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917480" y="554436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19800" y="5295240"/>
                <a:ext cx="21312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8614440" y="5463720"/>
                <a:ext cx="44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8332920" y="5913360"/>
                <a:ext cx="21348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7985160" y="5644080"/>
                <a:ext cx="5580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7382160" y="5483880"/>
              <a:ext cx="376560" cy="361080"/>
            </a:xfrm>
            <a:prstGeom prst="rightArrow">
              <a:avLst>
                <a:gd name="adj1" fmla="val 33852"/>
                <a:gd name="adj2" fmla="val 57981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104920" y="2994120"/>
            <a:ext cx="3046680" cy="341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111640"/>
            <a:ext cx="2728800" cy="1000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73240" y="2717640"/>
            <a:ext cx="3063960" cy="289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ニメーションの前に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160" y="1018800"/>
            <a:ext cx="896148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の制作手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じめ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紙の上でキャラクターの設計を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紙の上で動きの設計を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各種パーツへの分解を考え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の描画の準備を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にお絵か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種パーツを作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シンボル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ブラリーに登録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を作り、インスタンス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ブラリーに登録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用いパーツの配置と調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 2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戻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モーショントゥーインアニメーション＜復習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制作手順（平行移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にオブジェクトの描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お絵かき　：　（まずは基本図形の□、△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絵をシンボル化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パーツ化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タイプ：ムービークリッ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の追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追加したキーフレームの画像の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位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タイムラインのフレームを選択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→プロパティ、トゥイーンをモ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他に変形・回転しながらの移動の設定が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024680" y="0"/>
            <a:ext cx="2119320" cy="2905920"/>
            <a:chOff x="7024680" y="0"/>
            <a:chExt cx="2119320" cy="2905920"/>
          </a:xfrm>
        </p:grpSpPr>
        <p:grpSp>
          <p:nvGrpSpPr>
            <p:cNvPr id="131" name=""/>
            <p:cNvGrpSpPr/>
            <p:nvPr/>
          </p:nvGrpSpPr>
          <p:grpSpPr>
            <a:xfrm>
              <a:off x="7107120" y="0"/>
              <a:ext cx="2020680" cy="2609640"/>
              <a:chOff x="7107120" y="0"/>
              <a:chExt cx="2020680" cy="2609640"/>
            </a:xfrm>
          </p:grpSpPr>
          <p:sp>
            <p:nvSpPr>
              <p:cNvPr id="132" name=""/>
              <p:cNvSpPr/>
              <p:nvPr/>
            </p:nvSpPr>
            <p:spPr>
              <a:xfrm>
                <a:off x="7107120" y="0"/>
                <a:ext cx="2020680" cy="260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7176600" y="87120"/>
                <a:ext cx="863280" cy="2457360"/>
                <a:chOff x="7176600" y="87120"/>
                <a:chExt cx="863280" cy="24573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193880" y="87120"/>
                  <a:ext cx="84600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189920" y="716040"/>
                  <a:ext cx="84600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189920" y="1338480"/>
                  <a:ext cx="846000" cy="58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176600" y="1959840"/>
                  <a:ext cx="84600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106840" y="220680"/>
                <a:ext cx="891360" cy="414360"/>
                <a:chOff x="8106840" y="220680"/>
                <a:chExt cx="891360" cy="414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111160" y="22068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106840" y="36180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106840" y="50328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112960" y="635040"/>
                  <a:ext cx="885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8122680" y="817560"/>
                <a:ext cx="892080" cy="414360"/>
                <a:chOff x="8122680" y="817560"/>
                <a:chExt cx="892080" cy="414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8127360" y="81756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122680" y="95868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122680" y="110016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129160" y="123192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8119440" y="1452600"/>
                <a:ext cx="892080" cy="414360"/>
                <a:chOff x="8119440" y="1452600"/>
                <a:chExt cx="892080" cy="4143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24120" y="145260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119440" y="159372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119440" y="173520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25920" y="186696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8106840" y="2058840"/>
                <a:ext cx="891360" cy="414360"/>
                <a:chOff x="8106840" y="2058840"/>
                <a:chExt cx="891360" cy="414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8111160" y="205884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106840" y="219996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106840" y="234144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112960" y="2473200"/>
                  <a:ext cx="885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7024680" y="2598840"/>
              <a:ext cx="21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イメージボード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絵コン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481800" y="3760920"/>
            <a:ext cx="2566440" cy="961920"/>
            <a:chOff x="6481800" y="3760920"/>
            <a:chExt cx="2566440" cy="961920"/>
          </a:xfrm>
        </p:grpSpPr>
        <p:grpSp>
          <p:nvGrpSpPr>
            <p:cNvPr id="160" name=""/>
            <p:cNvGrpSpPr/>
            <p:nvPr/>
          </p:nvGrpSpPr>
          <p:grpSpPr>
            <a:xfrm>
              <a:off x="6481800" y="3770280"/>
              <a:ext cx="1193760" cy="952560"/>
              <a:chOff x="6481800" y="3770280"/>
              <a:chExt cx="1193760" cy="952560"/>
            </a:xfrm>
          </p:grpSpPr>
          <p:sp>
            <p:nvSpPr>
              <p:cNvPr id="161" name=""/>
              <p:cNvSpPr/>
              <p:nvPr/>
            </p:nvSpPr>
            <p:spPr>
              <a:xfrm>
                <a:off x="6481800" y="377028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08880" y="426564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786360" y="422712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81800" y="377028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08880" y="426564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786360" y="422712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854840" y="3760920"/>
              <a:ext cx="1193400" cy="952560"/>
              <a:chOff x="7854840" y="3760920"/>
              <a:chExt cx="1193400" cy="952560"/>
            </a:xfrm>
          </p:grpSpPr>
          <p:sp>
            <p:nvSpPr>
              <p:cNvPr id="168" name=""/>
              <p:cNvSpPr/>
              <p:nvPr/>
            </p:nvSpPr>
            <p:spPr>
              <a:xfrm>
                <a:off x="7854840" y="3760920"/>
                <a:ext cx="119340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502120" y="3925800"/>
                <a:ext cx="46944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8273520" y="4116240"/>
                <a:ext cx="469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4840" y="3760920"/>
                <a:ext cx="119340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502120" y="3925800"/>
                <a:ext cx="46944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8273520" y="4116240"/>
                <a:ext cx="469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7578720" y="4075200"/>
              <a:ext cx="424800" cy="407880"/>
            </a:xfrm>
            <a:prstGeom prst="rightArrow">
              <a:avLst>
                <a:gd name="adj1" fmla="val 33852"/>
                <a:gd name="adj2" fmla="val 5790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88200" y="4846680"/>
            <a:ext cx="2652480" cy="19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21200" y="6380280"/>
            <a:ext cx="3224520" cy="368280"/>
          </a:xfrm>
          <a:prstGeom prst="rect">
            <a:avLst/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基本：１レイヤーに１モ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84326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ーショントゥーインアニメ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ガイドレイヤー（モーションガイ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モーショントゥーインアニメーションの応用として、ガイドレイヤーを用いた動作の記述がある。ガイドレイヤーに動作軌跡の記述により、関連付けられているレイヤーのインスタンスは、軌跡に沿って動作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制作手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準備：単純な平行移動のモーショントゥーインアニメーションを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上記アニメーションレイヤーを選択しガイドレイヤーを追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方法１：タイムラインの下にあるガイドレイヤーの追加ボタンを押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方法２：アニメーションレイヤー上で右クリック→モーションガイドを追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ガイドレイヤーで鉛筆ツールなどで曲線（軌跡）を描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ガイドレイヤーをロッ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第１フレームに戻り、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択ツールにて、インスタンスを選択し、中心点（○印）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軌跡の始点に重ね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同様、最終フレームのインスタンスの中心点を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軌跡の最終ポイントに重ね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練習１、右図のようにボールが波打つように動かし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様々な動作とプロパティの設定を変更し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432480" y="247680"/>
            <a:ext cx="2567160" cy="961920"/>
            <a:chOff x="6432480" y="247680"/>
            <a:chExt cx="2567160" cy="961920"/>
          </a:xfrm>
        </p:grpSpPr>
        <p:grpSp>
          <p:nvGrpSpPr>
            <p:cNvPr id="180" name=""/>
            <p:cNvGrpSpPr/>
            <p:nvPr/>
          </p:nvGrpSpPr>
          <p:grpSpPr>
            <a:xfrm>
              <a:off x="6432480" y="257040"/>
              <a:ext cx="1193760" cy="952560"/>
              <a:chOff x="6432480" y="257040"/>
              <a:chExt cx="1193760" cy="952560"/>
            </a:xfrm>
          </p:grpSpPr>
          <p:sp>
            <p:nvSpPr>
              <p:cNvPr id="181" name=""/>
              <p:cNvSpPr/>
              <p:nvPr/>
            </p:nvSpPr>
            <p:spPr>
              <a:xfrm>
                <a:off x="6432480" y="25704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9560" y="75240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737040" y="71388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32480" y="25704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59560" y="75240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6737040" y="71388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805880" y="247680"/>
              <a:ext cx="1193760" cy="952560"/>
              <a:chOff x="7805880" y="247680"/>
              <a:chExt cx="1193760" cy="952560"/>
            </a:xfrm>
          </p:grpSpPr>
          <p:sp>
            <p:nvSpPr>
              <p:cNvPr id="188" name=""/>
              <p:cNvSpPr/>
              <p:nvPr/>
            </p:nvSpPr>
            <p:spPr>
              <a:xfrm>
                <a:off x="7805880" y="24768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453520" y="412560"/>
                <a:ext cx="46980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8224920" y="603000"/>
                <a:ext cx="469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05880" y="24768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453520" y="412560"/>
                <a:ext cx="46980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8224920" y="603000"/>
                <a:ext cx="469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7529760" y="561960"/>
              <a:ext cx="425160" cy="407880"/>
            </a:xfrm>
            <a:prstGeom prst="rightArrow">
              <a:avLst>
                <a:gd name="adj1" fmla="val 33852"/>
                <a:gd name="adj2" fmla="val 5795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04040" y="1986120"/>
            <a:ext cx="18813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6794640" y="3941640"/>
            <a:ext cx="2163600" cy="817560"/>
            <a:chOff x="6794640" y="3941640"/>
            <a:chExt cx="2163600" cy="817560"/>
          </a:xfrm>
        </p:grpSpPr>
        <p:graphicFrame>
          <p:nvGraphicFramePr>
            <p:cNvPr id="197" name=""/>
            <p:cNvGraphicFramePr/>
            <p:nvPr/>
          </p:nvGraphicFramePr>
          <p:xfrm>
            <a:off x="6794640" y="3941640"/>
            <a:ext cx="2163600" cy="817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94640" y="3941640"/>
                      <a:ext cx="216360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"/>
            <p:cNvGraphicFramePr/>
            <p:nvPr/>
          </p:nvGraphicFramePr>
          <p:xfrm>
            <a:off x="7651800" y="4246560"/>
            <a:ext cx="493920" cy="41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51800" y="4246560"/>
                      <a:ext cx="493920" cy="411120"/>
                    </a:xfrm>
                    <a:prstGeom prst="rect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1" name=""/>
            <p:cNvSpPr/>
            <p:nvPr/>
          </p:nvSpPr>
          <p:spPr>
            <a:xfrm flipH="1">
              <a:off x="7156080" y="4363920"/>
              <a:ext cx="466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2" name=""/>
          <p:cNvGraphicFramePr/>
          <p:nvPr/>
        </p:nvGraphicFramePr>
        <p:xfrm>
          <a:off x="6816600" y="4789440"/>
          <a:ext cx="1125720" cy="74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16600" y="4789440"/>
                    <a:ext cx="11257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6742080" y="5673600"/>
            <a:ext cx="2340000" cy="1101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624640" y="1982880"/>
            <a:ext cx="3519360" cy="866160"/>
          </a:xfrm>
          <a:prstGeom prst="rect">
            <a:avLst/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レイヤー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通常のレイヤー）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ガイドレイヤ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１セット、１モ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シェイプトゥイーンアニメ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144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ェイプトゥイーンアニメ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２つの形状の異なる図形間のアニメーション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制作手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初のフレームにシェイプを描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終フレームに空白キーフレームの挿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上記最終フレームに異なる形状のシェイプを描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初のフレームを選択し、プロパティ→「トゥイーン」を「シェイプ」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練習２、□と○でシェイプトゥイーンアニメーションを制作しな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異なる色、異なるシェイプの数を試しな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シェイプヒント）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ェイプトゥイーンアニメーションの動作をより精密に調整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制作手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準備：シェイプトゥイーンアニメーションを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初のフレームを選択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修正→シェイプ→シェイプヒントの追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ェイプヒントをシェイプに対し設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終フレームに移動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既に用意されているシェイプヒントをシェイプに対し設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に戻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602400" y="20520"/>
            <a:ext cx="2520720" cy="850680"/>
            <a:chOff x="6602400" y="20520"/>
            <a:chExt cx="2520720" cy="850680"/>
          </a:xfrm>
        </p:grpSpPr>
        <p:grpSp>
          <p:nvGrpSpPr>
            <p:cNvPr id="209" name=""/>
            <p:cNvGrpSpPr/>
            <p:nvPr/>
          </p:nvGrpSpPr>
          <p:grpSpPr>
            <a:xfrm>
              <a:off x="6602400" y="20520"/>
              <a:ext cx="1168920" cy="821160"/>
              <a:chOff x="6602400" y="20520"/>
              <a:chExt cx="1168920" cy="821160"/>
            </a:xfrm>
          </p:grpSpPr>
          <p:sp>
            <p:nvSpPr>
              <p:cNvPr id="210" name=""/>
              <p:cNvSpPr/>
              <p:nvPr/>
            </p:nvSpPr>
            <p:spPr>
              <a:xfrm>
                <a:off x="6602400" y="20520"/>
                <a:ext cx="1168920" cy="821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28200" y="189000"/>
                <a:ext cx="550800" cy="44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77840" y="7632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77840" y="58284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82040" y="57168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2040" y="6516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905520" y="76320"/>
                <a:ext cx="20196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24000" y="177840"/>
                <a:ext cx="7848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298640" y="695520"/>
                <a:ext cx="15732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6826680" y="481320"/>
                <a:ext cx="5616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02400" y="20520"/>
                <a:ext cx="1168920" cy="821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928200" y="189000"/>
                <a:ext cx="550800" cy="44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77840" y="7632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77840" y="58284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82040" y="57168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82040" y="6516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905520" y="76320"/>
                <a:ext cx="20196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24000" y="177840"/>
                <a:ext cx="7848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7298640" y="695520"/>
                <a:ext cx="15732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6826680" y="481320"/>
                <a:ext cx="5616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7954200" y="20520"/>
              <a:ext cx="1168920" cy="850680"/>
              <a:chOff x="7954200" y="20520"/>
              <a:chExt cx="1168920" cy="850680"/>
            </a:xfrm>
          </p:grpSpPr>
          <p:sp>
            <p:nvSpPr>
              <p:cNvPr id="231" name=""/>
              <p:cNvSpPr/>
              <p:nvPr/>
            </p:nvSpPr>
            <p:spPr>
              <a:xfrm>
                <a:off x="7954200" y="20520"/>
                <a:ext cx="1168920" cy="820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92320" y="222840"/>
                <a:ext cx="460800" cy="47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493840" y="8928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750880" y="358920"/>
                <a:ext cx="259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493840" y="6390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23840" y="36900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26160" y="121320"/>
                <a:ext cx="21312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8920800" y="290160"/>
                <a:ext cx="44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8639280" y="739800"/>
                <a:ext cx="21348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8291520" y="470160"/>
                <a:ext cx="5580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954200" y="20520"/>
                <a:ext cx="1168920" cy="820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392320" y="222840"/>
                <a:ext cx="460800" cy="47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93840" y="8928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50880" y="358920"/>
                <a:ext cx="259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493840" y="64008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223840" y="37044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26160" y="121320"/>
                <a:ext cx="21312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8920800" y="290160"/>
                <a:ext cx="44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8639280" y="739800"/>
                <a:ext cx="21348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291520" y="470160"/>
                <a:ext cx="5580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7688520" y="310320"/>
              <a:ext cx="376560" cy="361080"/>
            </a:xfrm>
            <a:prstGeom prst="rightArrow">
              <a:avLst>
                <a:gd name="adj1" fmla="val 33852"/>
                <a:gd name="adj2" fmla="val 57981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210440" y="5737320"/>
            <a:ext cx="878040" cy="1120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356680" y="5489640"/>
            <a:ext cx="787320" cy="1650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323120" y="4533840"/>
            <a:ext cx="727200" cy="1287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8280360" y="4486320"/>
            <a:ext cx="863640" cy="1227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848640" y="1036800"/>
            <a:ext cx="2020680" cy="1287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7985160" y="2943360"/>
            <a:ext cx="1158840" cy="988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160960" y="1860480"/>
            <a:ext cx="3767040" cy="368280"/>
          </a:xfrm>
          <a:prstGeom prst="rect">
            <a:avLst/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基本：１レイヤーに１モ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6760" y="1018800"/>
            <a:ext cx="859464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課題　下記の課題に取り組み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少なくとも何れかに取り組みなさい。また下記のテーマ以外に取り組んでも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課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8-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１：テーマ：キノミキノママで自在に飛び回るボールのアニメーションを制作しなさ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モーショントゥイーンアニメーションのガイドレイヤーを用いること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課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8-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２：○△□☆等の様々な図形に形状、数、色が変わるアニメーションを制作しなさい。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シェイプトゥイーンアニメーションを用いること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保存：自分の記録用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標準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提出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ファイル」→「書き出し」→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ムービー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書き出し」→「アニメーショ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ファイル名　学籍番号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2:19:04Z</dcterms:created>
  <dc:creator>atlabo</dc:creator>
  <dc:description/>
  <dc:language>en-US</dc:language>
  <cp:lastModifiedBy>atlabo</cp:lastModifiedBy>
  <dcterms:modified xsi:type="dcterms:W3CDTF">2006-08-22T06:05:27Z</dcterms:modified>
  <cp:revision>594</cp:revision>
  <dc:subject/>
  <dc:title>ドキュメントデザイン２</dc:title>
</cp:coreProperties>
</file>