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3FF8-1F67-427C-B73C-F603E5697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1BFB-1136-41BE-B889-93A8639CA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77DC-2AFE-4866-B91C-4FA98B114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2210-6260-488C-8C9B-8723222660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AB56-EF31-405C-90FE-115E7612E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CDA3-69B8-4B8E-BA5C-3E91184BD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60E1-2F26-4F51-8B5C-41D8430C8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954E-FD45-414F-9185-80D4BEEB0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F0D3-2447-4605-9180-0F09D0DE0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167D-A424-4F79-99B8-869ADF3D0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D706-5F04-4F1B-9D15-3A42047B0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9A0F-BBB0-4E88-9510-8DC449380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36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6670-8A0D-41E2-9799-02F25E8217EF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D2(200504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640" y="1000080"/>
            <a:ext cx="745308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bu.ac.jp/~tsubokur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790560"/>
            <a:ext cx="77342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ドキュメントデザイン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917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文理大学　坪倉篤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bu.ac.jp/~tsubo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43000" y="1444680"/>
          <a:ext cx="7292880" cy="5413320"/>
        </p:xfrm>
        <a:graphic>
          <a:graphicData uri="http://schemas.openxmlformats.org/drawingml/2006/table">
            <a:tbl>
              <a:tblPr/>
              <a:tblGrid>
                <a:gridCol w="457200"/>
                <a:gridCol w="284040"/>
                <a:gridCol w="3122640"/>
                <a:gridCol w="474840"/>
                <a:gridCol w="29541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: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小テストと解説の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リエンテーショ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入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マー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開発プロセ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オーサリングツール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ンフォメーションアーキテクチ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キュリテ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～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後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まと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Per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JavaScri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AS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実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　後半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-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期末試験：全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966960" y="2273400"/>
            <a:ext cx="7575480" cy="5475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ash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先週の復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38320" y="1018800"/>
            <a:ext cx="754848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図形の描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ラデ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線のタイプの変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図形の変更等複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ダイレクト選択ツ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自由変形ツ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お絵かきのコ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絵を描い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塗り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保存形式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IF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3360" y="1058760"/>
          <a:ext cx="89712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058760"/>
                    <a:ext cx="897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1876320"/>
            <a:ext cx="1047600" cy="3841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60680"/>
            <a:ext cx="1047600" cy="6476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09760"/>
            <a:ext cx="500040" cy="3985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7560" y="1279440"/>
            <a:ext cx="500040" cy="5796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4680" y="3575160"/>
            <a:ext cx="415800" cy="3492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69840" y="3922560"/>
            <a:ext cx="1047600" cy="29354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673520" y="992160"/>
            <a:ext cx="4470480" cy="2614680"/>
            <a:chOff x="4673520" y="992160"/>
            <a:chExt cx="4470480" cy="2614680"/>
          </a:xfrm>
        </p:grpSpPr>
        <p:graphicFrame>
          <p:nvGraphicFramePr>
            <p:cNvPr id="56" name=""/>
            <p:cNvGraphicFramePr/>
            <p:nvPr/>
          </p:nvGraphicFramePr>
          <p:xfrm>
            <a:off x="6951600" y="1138320"/>
            <a:ext cx="2192400" cy="2468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51600" y="1138320"/>
                      <a:ext cx="2192400" cy="24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7458120" y="1602000"/>
              <a:ext cx="790560" cy="295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8240" y="992160"/>
              <a:ext cx="150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塗りのスタイ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819480" y="1220400"/>
              <a:ext cx="63828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6778440" y="1407960"/>
              <a:ext cx="542880" cy="857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73520" y="120816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グラデーション定義バ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40440" y="2332080"/>
              <a:ext cx="276120" cy="247680"/>
            </a:xfrm>
            <a:prstGeom prst="ellipse">
              <a:avLst/>
            </a:prstGeom>
            <a:noFill/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29400" y="1639800"/>
              <a:ext cx="380880" cy="71460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45240" y="1617840"/>
              <a:ext cx="1990800" cy="704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65800" y="14526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色のポイン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72240" y="2516400"/>
              <a:ext cx="1428840" cy="10569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601120" y="2344680"/>
              <a:ext cx="276120" cy="247680"/>
            </a:xfrm>
            <a:prstGeom prst="ellipse">
              <a:avLst/>
            </a:prstGeom>
            <a:noFill/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鉛筆ツールとペンツ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45680" y="1018800"/>
            <a:ext cx="734076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鉛筆ツー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標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鉛筆ツールの選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プションをストレート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マウスで直線を描いてみる→自動的に直線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鉛筆ツー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スムーズ（オプショ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鉛筆ツールの選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プションをスムーズ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」を描いてみ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ンカーポイントを適度に減らして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鉛筆ツー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ク（オプショ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鉛筆ツールの選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プションをインク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」を描いてみ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ンカーポイントを適度に減らして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練習１：各種オプションで○を描いてみ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ンカーポイントの数の減らし方などを確認、オプションと描ける図形との関係、特徴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992160"/>
          <a:ext cx="1203480" cy="58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2160"/>
                    <a:ext cx="120348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0" y="812880"/>
            <a:ext cx="1219320" cy="139680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577960"/>
            <a:ext cx="1219320" cy="261648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2222640"/>
            <a:ext cx="685800" cy="35532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鉛筆ツールとペンツ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45680" y="1019160"/>
            <a:ext cx="73407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ペンツール（直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た図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ペンツールの選択→アンカーポイントの作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終了はアンカーポイントをダブルクリッ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閉じた図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ペンツールの選択→アンカーポイントの作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終了は何処かのアンカーポイントを選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ペンツール（曲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ペンツールの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ラッグにてアンカーポイントの作成（カーブポイントと呼ぶ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ナーポイントをカーブポイントへ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ダイレクト選択ツー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ダイレクト選択ツールにて、アンカーポイントを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を押しながらコーナーポイントをドラッグ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コーナーポイント→カーブポイント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練習２：□を描き、アンカーポイントを調整して、○に変形し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992160"/>
          <a:ext cx="1203480" cy="58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2160"/>
                    <a:ext cx="120348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812880"/>
            <a:ext cx="1219320" cy="139680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577960"/>
            <a:ext cx="1219320" cy="261648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9800" y="2222640"/>
            <a:ext cx="685800" cy="35532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378560" y="3105000"/>
          <a:ext cx="100332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78560" y="3105000"/>
                    <a:ext cx="10033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シツールと消しゴムツ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64800" y="1019160"/>
            <a:ext cx="81788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シツールを使い分けよ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ラシツール→オプションを選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効果とオプションの関係を確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塗りの固定とグラデ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ラシツールを選択→カラーミキサーでグラデーションを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塗りの固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ラシツールのオプ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練習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形状のオブジェクトを描き、ブラシツールのオプション、塗りと固定のグラデーション、について調べ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0760" y="698400"/>
          <a:ext cx="851040" cy="61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698400"/>
                    <a:ext cx="8510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673200"/>
            <a:ext cx="914400" cy="157464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616120"/>
            <a:ext cx="914400" cy="284472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235240"/>
            <a:ext cx="507960" cy="38088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486480" y="914400"/>
          <a:ext cx="128592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86480" y="914400"/>
                    <a:ext cx="12859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869240" y="1168560"/>
          <a:ext cx="1274760" cy="78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69240" y="1168560"/>
                    <a:ext cx="127476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883640" y="2044800"/>
          <a:ext cx="1260360" cy="7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3640" y="2044800"/>
                    <a:ext cx="12603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550200" y="3860640"/>
          <a:ext cx="222552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0200" y="3860640"/>
                    <a:ext cx="2225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シツールと消しゴムツ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68400" y="1018800"/>
            <a:ext cx="682776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線や塗りを流し消す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消しゴムツール＋流し消すオプショ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消しゴムツールの選択→流し消すオプ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塗りを流し消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線を流し消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消しゴムツールのオプ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プ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消す（標準）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塗りを消す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線を消す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択された塗りを消す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側を消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練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右記の画像の制作をし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各左側の画像を描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左の素材を元に右の画像を描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73200"/>
            <a:ext cx="914400" cy="157464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616120"/>
            <a:ext cx="914400" cy="284472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235240"/>
            <a:ext cx="507960" cy="38088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1520" y="990720"/>
          <a:ext cx="889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990720"/>
                    <a:ext cx="889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901800"/>
            <a:ext cx="990720" cy="259056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886200"/>
            <a:ext cx="990720" cy="209232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89480"/>
            <a:ext cx="552600" cy="39996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96040"/>
            <a:ext cx="990720" cy="56196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87880"/>
            <a:ext cx="533520" cy="31464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4960" y="1644480"/>
          <a:ext cx="59040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4960" y="1644480"/>
                    <a:ext cx="5904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231040" y="1508040"/>
          <a:ext cx="57168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1040" y="1508040"/>
                    <a:ext cx="5716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848720" y="2800440"/>
          <a:ext cx="1295280" cy="135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48720" y="2800440"/>
                    <a:ext cx="1295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215120" y="5549760"/>
          <a:ext cx="1424160" cy="13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15120" y="5549760"/>
                    <a:ext cx="1424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729400" y="5983200"/>
          <a:ext cx="1288800" cy="64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9400" y="5983200"/>
                    <a:ext cx="12888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829480" y="4351320"/>
          <a:ext cx="2319120" cy="109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29480" y="4351320"/>
                    <a:ext cx="231912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キ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0480" y="1018800"/>
            <a:ext cx="772632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字入力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テキストツール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決まった文字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キストツールで空間の指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ントを変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選択ツー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パティ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ォン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字詰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選択ツー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パティ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文字詰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行間の調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選択ツー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パティ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行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キストのアウトライン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テキスト情報の破棄、塗りの情報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選択ツールで文字列の選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「修正メニュー」→「分解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さらに「選択ツール」で文字列の選択→ 「修正メニュー」→「分解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選択ツールやバケツツールなどで変更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9400" y="1038240"/>
          <a:ext cx="7617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1038240"/>
                    <a:ext cx="76176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008000" y="5570640"/>
          <a:ext cx="674676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8000" y="5570640"/>
                    <a:ext cx="6746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練習４の画像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で保存し提出し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メニュー→書き出し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課題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キャラクターを作り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課題２：テーマ、自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自分の名前を描画しなさい。描画した文字列を変形させ、自分を表現し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提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形式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のファイ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＠Ｌｅａｒｎにて提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：描画の基礎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課題 描画の基礎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保存と書き出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様々な保存形式にて保存が可能。それぞれに特徴があるので、それらを理解した中で、保存し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再編集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メニュー→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ラウザー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閲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Flash Play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再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メニュー→書き出し→ファイルの種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w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IF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ブラウザーでの閲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メニュー→書き出し→ファイルの種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g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2:19:04Z</dcterms:created>
  <dc:creator>atlabo</dc:creator>
  <dc:description/>
  <dc:language>en-US</dc:language>
  <cp:lastModifiedBy>atlabo</cp:lastModifiedBy>
  <dcterms:modified xsi:type="dcterms:W3CDTF">2006-08-22T06:02:23Z</dcterms:modified>
  <cp:revision>249</cp:revision>
  <dc:subject/>
  <dc:title>ドキュメントデザイン２</dc:title>
</cp:coreProperties>
</file>