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28877-828A-440A-97A0-6628948C83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018800"/>
            <a:ext cx="82296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068720"/>
            <a:ext cx="82296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2E1A9-45A9-4475-A5B6-5B159EF5E3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18800"/>
            <a:ext cx="40158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18800"/>
            <a:ext cx="40158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68720"/>
            <a:ext cx="40158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068720"/>
            <a:ext cx="40158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B665C-9653-4F9F-803B-E36386F8D8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18800"/>
            <a:ext cx="26496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018800"/>
            <a:ext cx="26496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018800"/>
            <a:ext cx="26496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068720"/>
            <a:ext cx="26496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068720"/>
            <a:ext cx="26496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068720"/>
            <a:ext cx="26496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E84C3-F520-4898-B86F-F9C7B3A140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018800"/>
            <a:ext cx="8229600" cy="58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3D749-EDBF-427C-8EE4-FDCA0055C2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018800"/>
            <a:ext cx="822960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48505-E98E-4E55-9CFE-64D1469D85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018800"/>
            <a:ext cx="401580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018800"/>
            <a:ext cx="401580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FDBD8-C063-48B9-9834-749777AEEB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DBA64-CAAC-4BF5-9F64-007BC4D20C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5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E6457-F175-4931-BBEF-BB816C38C9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18800"/>
            <a:ext cx="40158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018800"/>
            <a:ext cx="401580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068720"/>
            <a:ext cx="40158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EDBFA-E8D6-4E69-B7CD-9E41DECAB5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018800"/>
            <a:ext cx="401580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018800"/>
            <a:ext cx="40158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068720"/>
            <a:ext cx="40158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AEB05-A18E-45B9-A674-FFE63077E9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018800"/>
            <a:ext cx="40158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018800"/>
            <a:ext cx="40158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68720"/>
            <a:ext cx="82296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7F0C4-7127-4C3A-BC8E-17CDDA318F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018800"/>
            <a:ext cx="822960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1636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485BA-79A2-4EEC-AF3D-04CA5B14BDC7}" type="slidenum">
              <a:rPr b="0" lang="ja-JP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DD2(20050406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7640" y="1000080"/>
            <a:ext cx="7453080" cy="0"/>
          </a:xfrm>
          <a:prstGeom prst="line">
            <a:avLst/>
          </a:prstGeom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nbu.ac.jp/~tsubokura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14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4.png"/><Relationship Id="rId1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790560"/>
            <a:ext cx="7734240" cy="387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ドキュメントデザイン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491760"/>
            <a:ext cx="914400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本文理大学　坪倉篤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nbu.ac.jp/~tsubok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143000" y="1444680"/>
          <a:ext cx="7292880" cy="5413320"/>
        </p:xfrm>
        <a:graphic>
          <a:graphicData uri="http://schemas.openxmlformats.org/drawingml/2006/table">
            <a:tbl>
              <a:tblPr/>
              <a:tblGrid>
                <a:gridCol w="457200"/>
                <a:gridCol w="284040"/>
                <a:gridCol w="3122640"/>
                <a:gridCol w="474840"/>
                <a:gridCol w="2954160"/>
              </a:tblGrid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acse: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小テストと解説の範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Fla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7"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ACSE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前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オリエンテーショ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rowSpan="6">
                  <a:txBody>
                    <a:bodyPr lIns="90000" rIns="90000" tIns="46800" bIns="46800" anchor="ctr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入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描画の基礎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, 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全般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描画の基礎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2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, 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コマー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描画の基礎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3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, 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開発プロセ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アニメーション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5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-3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課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,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オーサリングツール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インフォメーションアーキテクチャ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アニメーション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9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,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セキュリティ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アニメーション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中間試験：範囲 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～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3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,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5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-3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課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,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9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7"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ACSE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後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中間試験まと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rowSpan="6">
                  <a:txBody>
                    <a:bodyPr lIns="90000" rIns="90000" tIns="46800" bIns="46800" anchor="ctr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応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インタラクティブコンテンツ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4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, 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TM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インタラクティブコンテンツ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5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4-7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課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, 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インタラクティブコンテンツ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6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Per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ActionScript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7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JavaScrip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ActionScript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8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ASP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制作実習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中間試験：範囲　後半 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4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,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5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4-7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課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,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第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6-8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期末試験：全範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保存と書き出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018800"/>
            <a:ext cx="822960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acromedia Flash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は様々な保存形式にて保存が可能。それぞれに特徴があるので、それらを理解した中で、保存しなさ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acromedia Flash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形式での保存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：再編集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ファイルメニュー→保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形式での保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ブラウザー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lugI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の閲覧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/Flash Playe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の再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ファイルメニュー→書き出し→ファイルの種類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sw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GIF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アニメーション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GIF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形式での保存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ブラウザーでの閲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ファイルメニュー→書き出し→ファイルの種類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gi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Flash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先週の復習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38320" y="1018800"/>
            <a:ext cx="754848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基本図形の描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直線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：（線ツール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400" spc="-1" strike="noStrike">
                <a:solidFill>
                  <a:srgbClr val="808080"/>
                </a:solidFill>
                <a:latin typeface="Arial"/>
              </a:rPr>
              <a:t>memo:Shift</a:t>
            </a:r>
            <a:r>
              <a:rPr b="0" i="1" lang="ja-JP" sz="1400" spc="-1" strike="noStrike">
                <a:solidFill>
                  <a:srgbClr val="808080"/>
                </a:solidFill>
                <a:latin typeface="Arial"/>
              </a:rPr>
              <a:t>キーを押しながらドラッ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円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：（楕円ツール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四角形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：（矩形ツール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角丸四角形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：（矩形ツール→オプションの「角丸のポイント数」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三角形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：（多角形ツール→オプション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星型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：（多角形ツール→オプション→スタイル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線と塗りの練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図形の分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線で図形の分断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図形を線で分断→移動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塗りで線の分断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図形を線無しの矩形を上書き→移動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塗りの変更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：（バケツツール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描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バケツツールにて塗りの色の変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色のコピー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：（スポイトツール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色の変更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：（選択ツール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保存形式につい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Macromedia Flash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形式での保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形式での保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GIF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アニメーション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IF)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形式での保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63360" y="1058760"/>
          <a:ext cx="897120" cy="567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360" y="1058760"/>
                    <a:ext cx="897120" cy="567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0" y="1876320"/>
            <a:ext cx="1047600" cy="384120"/>
          </a:xfrm>
          <a:prstGeom prst="rect">
            <a:avLst/>
          </a:prstGeom>
          <a:solidFill>
            <a:srgbClr val="ffffcc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560680"/>
            <a:ext cx="1047600" cy="647640"/>
          </a:xfrm>
          <a:prstGeom prst="rect">
            <a:avLst/>
          </a:prstGeom>
          <a:solidFill>
            <a:srgbClr val="ffffcc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209760"/>
            <a:ext cx="500040" cy="398520"/>
          </a:xfrm>
          <a:prstGeom prst="rect">
            <a:avLst/>
          </a:prstGeom>
          <a:solidFill>
            <a:srgbClr val="ffffcc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47560" y="1279440"/>
            <a:ext cx="500040" cy="579600"/>
          </a:xfrm>
          <a:prstGeom prst="rect">
            <a:avLst/>
          </a:prstGeom>
          <a:solidFill>
            <a:srgbClr val="ffffcc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4680" y="3575160"/>
            <a:ext cx="415800" cy="349200"/>
          </a:xfrm>
          <a:prstGeom prst="rect">
            <a:avLst/>
          </a:prstGeom>
          <a:solidFill>
            <a:srgbClr val="ffffcc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-69840" y="3922560"/>
            <a:ext cx="1047600" cy="2935440"/>
          </a:xfrm>
          <a:prstGeom prst="rect">
            <a:avLst/>
          </a:prstGeom>
          <a:solidFill>
            <a:srgbClr val="ffffcc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887400"/>
          <a:ext cx="91440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87400"/>
                    <a:ext cx="9144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グラデーショ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25200" y="1018800"/>
            <a:ext cx="8031240" cy="586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グラデーションの設定にはカラーミキサーを用い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ウィンドウ→デザインパネル→カラーミキサ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線状グラデーション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図形の描画→カラーミキサ→バケツツール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を描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「カラーミキサー」の「塗りのスタイル」→「線状」を選択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色のポインタを選択し、それぞれに色を指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バケツツールで、あらかじめ描画した図形に流し込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グラデーションが反映されないときは　オプションの「塗りの固定」を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off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グラデーションの調整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塗りの変更ツール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グラデーションの調整には「塗りの変更ツール」を用い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を描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塗りの部分にグラデーションをつけ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「塗りの変更ツール」で図形の塗りの部分の選択</a:t>
            </a:r>
            <a:br>
              <a:rPr sz="1600"/>
            </a:b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→塗りの境界線と中心点が表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□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の編集ハンドルでグラデーションの幅を変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の編集ハンドルでグラデーションの角度を変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中心点の○をドラッグしてグラデーションの位置を変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400" spc="-1" strike="noStrike">
                <a:solidFill>
                  <a:srgbClr val="000000"/>
                </a:solidFill>
                <a:latin typeface="Arial"/>
              </a:rPr>
              <a:t>メモ　</a:t>
            </a:r>
            <a:r>
              <a:rPr b="0" i="1" lang="ja-JP" sz="1400" spc="-1" strike="noStrike">
                <a:solidFill>
                  <a:srgbClr val="000000"/>
                </a:solidFill>
                <a:latin typeface="Arial"/>
              </a:rPr>
              <a:t>shift</a:t>
            </a:r>
            <a:r>
              <a:rPr b="0" i="1" lang="ja-JP" sz="1400" spc="-1" strike="noStrike">
                <a:solidFill>
                  <a:srgbClr val="000000"/>
                </a:solidFill>
                <a:latin typeface="Arial"/>
              </a:rPr>
              <a:t>キーを押しながらドラッ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885000" y="88920"/>
          <a:ext cx="2192400" cy="2468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85000" y="88920"/>
                    <a:ext cx="2192400" cy="24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7391520" y="552600"/>
            <a:ext cx="790560" cy="2952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81640" y="-57240"/>
            <a:ext cx="150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塗りのスタイル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6752880" y="171000"/>
            <a:ext cx="638280" cy="38124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6711840" y="358560"/>
            <a:ext cx="542880" cy="8571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06920" y="158760"/>
            <a:ext cx="23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グラデーション定義バ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73840" y="1282680"/>
            <a:ext cx="276120" cy="247680"/>
          </a:xfrm>
          <a:prstGeom prst="ellipse">
            <a:avLst/>
          </a:prstGeom>
          <a:noFill/>
          <a:ln w="3816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62800" y="590400"/>
            <a:ext cx="380880" cy="714600"/>
          </a:xfrm>
          <a:prstGeom prst="line">
            <a:avLst/>
          </a:prstGeom>
          <a:ln w="3816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578640" y="568440"/>
            <a:ext cx="1990800" cy="704880"/>
          </a:xfrm>
          <a:prstGeom prst="line">
            <a:avLst/>
          </a:prstGeom>
          <a:ln w="3816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299200" y="4032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色のポイン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505640" y="1467000"/>
            <a:ext cx="1428840" cy="10569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534520" y="1295280"/>
            <a:ext cx="276120" cy="247680"/>
          </a:xfrm>
          <a:prstGeom prst="ellipse">
            <a:avLst/>
          </a:prstGeom>
          <a:noFill/>
          <a:ln w="3816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320" y="1184400"/>
            <a:ext cx="958680" cy="1009440"/>
          </a:xfrm>
          <a:prstGeom prst="rect">
            <a:avLst/>
          </a:prstGeom>
          <a:solidFill>
            <a:srgbClr val="ffffcc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2516040"/>
            <a:ext cx="958680" cy="362160"/>
          </a:xfrm>
          <a:prstGeom prst="rect">
            <a:avLst/>
          </a:prstGeom>
          <a:solidFill>
            <a:srgbClr val="ffffcc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2871720"/>
            <a:ext cx="468360" cy="630360"/>
          </a:xfrm>
          <a:prstGeom prst="rect">
            <a:avLst/>
          </a:prstGeom>
          <a:solidFill>
            <a:srgbClr val="ffffcc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-22320" y="3497400"/>
            <a:ext cx="959040" cy="2257200"/>
          </a:xfrm>
          <a:prstGeom prst="rect">
            <a:avLst/>
          </a:prstGeom>
          <a:solidFill>
            <a:srgbClr val="ffffcc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3160" y="3166920"/>
            <a:ext cx="1516320" cy="3011760"/>
          </a:xfrm>
          <a:custGeom>
            <a:avLst/>
            <a:gdLst/>
            <a:ahLst/>
            <a:rect l="l" t="t" r="r" b="b"/>
            <a:pathLst>
              <a:path w="997" h="1757">
                <a:moveTo>
                  <a:pt x="0" y="1757"/>
                </a:moveTo>
                <a:lnTo>
                  <a:pt x="238" y="1757"/>
                </a:lnTo>
                <a:lnTo>
                  <a:pt x="238" y="0"/>
                </a:lnTo>
                <a:lnTo>
                  <a:pt x="997" y="0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7797960" y="4861080"/>
          <a:ext cx="860400" cy="898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797960" y="4861080"/>
                    <a:ext cx="860400" cy="89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7872480" y="3836880"/>
          <a:ext cx="806400" cy="846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872480" y="3836880"/>
                    <a:ext cx="806400" cy="8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7761240" y="5967360"/>
          <a:ext cx="936720" cy="860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761240" y="5967360"/>
                    <a:ext cx="93672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0" y="887400"/>
          <a:ext cx="91440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87400"/>
                    <a:ext cx="9144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グラデーショ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47360" y="1018800"/>
            <a:ext cx="803124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放射状グラデーショ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図形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例：○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を描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「カラーミキサー」にて、</a:t>
            </a:r>
            <a:br>
              <a:rPr sz="1600"/>
            </a:b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　　　　　　　　　「塗りのスタイル」から「放射状」を選択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色を調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バケツツールで流し込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放射状グラデーションの調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図形を描画。塗りを放射状グラデーションにす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塗りの変更ツールを選択し、グラデーションの塗りの部分を選択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各種ハンドルでグラデーションを調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グラデーションの色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「カラーミキサー」の「塗りのスタイル」から「線状」を選択、</a:t>
            </a:r>
            <a:br>
              <a:rPr sz="1600"/>
            </a:b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→「グラデーション定義バー」を表示→バーの下側をクリック</a:t>
            </a:r>
            <a:br>
              <a:rPr sz="1600"/>
            </a:b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　→「色のポインタ」が追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ポインタの位置を変更可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演習　下記の課題に取り組み、グラデーションを用いて描画しなさ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演習１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１　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演習１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２　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6885000" y="88920"/>
          <a:ext cx="2192400" cy="2468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85000" y="88920"/>
                    <a:ext cx="2192400" cy="24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7391520" y="552600"/>
            <a:ext cx="790560" cy="2952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81640" y="-57240"/>
            <a:ext cx="150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塗りのスタイル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6752880" y="171000"/>
            <a:ext cx="638280" cy="38124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6711840" y="358560"/>
            <a:ext cx="542880" cy="8571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06920" y="158760"/>
            <a:ext cx="23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グラデーション定義バ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73840" y="1282680"/>
            <a:ext cx="276120" cy="247680"/>
          </a:xfrm>
          <a:prstGeom prst="ellipse">
            <a:avLst/>
          </a:prstGeom>
          <a:noFill/>
          <a:ln w="3816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562800" y="590400"/>
            <a:ext cx="380880" cy="714600"/>
          </a:xfrm>
          <a:prstGeom prst="line">
            <a:avLst/>
          </a:prstGeom>
          <a:ln w="3816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578640" y="568440"/>
            <a:ext cx="1990800" cy="704880"/>
          </a:xfrm>
          <a:prstGeom prst="line">
            <a:avLst/>
          </a:prstGeom>
          <a:ln w="3816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299200" y="4032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色のポイン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505640" y="1467000"/>
            <a:ext cx="1428840" cy="10569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534520" y="1295280"/>
            <a:ext cx="276120" cy="247680"/>
          </a:xfrm>
          <a:prstGeom prst="ellipse">
            <a:avLst/>
          </a:prstGeom>
          <a:noFill/>
          <a:ln w="3816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320" y="1184400"/>
            <a:ext cx="958680" cy="1009440"/>
          </a:xfrm>
          <a:prstGeom prst="rect">
            <a:avLst/>
          </a:prstGeom>
          <a:solidFill>
            <a:srgbClr val="ffffcc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2516040"/>
            <a:ext cx="958680" cy="362160"/>
          </a:xfrm>
          <a:prstGeom prst="rect">
            <a:avLst/>
          </a:prstGeom>
          <a:solidFill>
            <a:srgbClr val="ffffcc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871720"/>
            <a:ext cx="468360" cy="630360"/>
          </a:xfrm>
          <a:prstGeom prst="rect">
            <a:avLst/>
          </a:prstGeom>
          <a:solidFill>
            <a:srgbClr val="ffffcc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-22320" y="3497400"/>
            <a:ext cx="959040" cy="2257200"/>
          </a:xfrm>
          <a:prstGeom prst="rect">
            <a:avLst/>
          </a:prstGeom>
          <a:solidFill>
            <a:srgbClr val="ffffcc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7562880" y="3260880"/>
          <a:ext cx="1468440" cy="1390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62880" y="3260880"/>
                    <a:ext cx="1468440" cy="139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7662960" y="2873520"/>
            <a:ext cx="14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編集ハンド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007480" y="4794120"/>
            <a:ext cx="12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拡大・縮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167680" y="4567320"/>
            <a:ext cx="6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回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488360" y="312264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中心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791560" y="3152880"/>
            <a:ext cx="14292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083440" y="3444840"/>
            <a:ext cx="171720" cy="419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8636040" y="4368600"/>
            <a:ext cx="181080" cy="276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8940960" y="4168800"/>
            <a:ext cx="85680" cy="714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199040" y="5740560"/>
          <a:ext cx="1042920" cy="1055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99040" y="5740560"/>
                    <a:ext cx="1042920" cy="105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5459400" y="5737320"/>
          <a:ext cx="987480" cy="1120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59400" y="5737320"/>
                    <a:ext cx="987480" cy="112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線のタイプの変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26720" y="1018800"/>
            <a:ext cx="765972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線のタイプの変更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（インクボトルツール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実線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極細線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破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オブジェクトを描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「インクボトルツール」を選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プロパティにて、「線の色」、「線種」、「色」を選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「インクボトルツール」にてオブジェクトの線を選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破線のカスタマイ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「インクボトルツール」にて、「線種」を「破線」に設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「カスタム」ボタンをクリック→各種パラメータを変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「インクボトルツール」にてオブジェクトの線を選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線のタイプの変更（選択ツール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「選択ツール」にて、線を選択。（複数を選択する場合は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hif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キーを押しながら連続して選択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プロパティにて、 「線の色」、「線種」、「色」を選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選択を解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演習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つの図形を描き、それぞれの線を全て異なる線種にしなさ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0" y="887400"/>
          <a:ext cx="91440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87400"/>
                    <a:ext cx="9144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-22320" y="1527120"/>
            <a:ext cx="959040" cy="1666800"/>
          </a:xfrm>
          <a:prstGeom prst="rect">
            <a:avLst/>
          </a:prstGeom>
          <a:solidFill>
            <a:srgbClr val="ffffcc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3530520"/>
            <a:ext cx="958680" cy="2927520"/>
          </a:xfrm>
          <a:prstGeom prst="rect">
            <a:avLst/>
          </a:prstGeom>
          <a:solidFill>
            <a:srgbClr val="ffffcc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17600" y="3165480"/>
            <a:ext cx="492120" cy="366840"/>
          </a:xfrm>
          <a:prstGeom prst="rect">
            <a:avLst/>
          </a:prstGeom>
          <a:solidFill>
            <a:srgbClr val="ffffcc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30200" y="1166760"/>
            <a:ext cx="492120" cy="366840"/>
          </a:xfrm>
          <a:prstGeom prst="rect">
            <a:avLst/>
          </a:prstGeom>
          <a:solidFill>
            <a:srgbClr val="ffffcc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41400" y="657360"/>
          <a:ext cx="901440" cy="617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0" y="657360"/>
                    <a:ext cx="90144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図形の変更と複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22120" y="1018800"/>
            <a:ext cx="7877160" cy="63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図形の複製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（選択ツール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図形を選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編集メニューの複製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Ctrl+D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選択図形が複製され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複製された図形を選択ツールで移動→選択の解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ja-JP" sz="1800" spc="-1" strike="noStrike">
                <a:solidFill>
                  <a:srgbClr val="000000"/>
                </a:solidFill>
                <a:latin typeface="Arial"/>
              </a:rPr>
              <a:t>他に編集メニューのコピーとペーストを用いた複製も可能</a:t>
            </a:r>
            <a:r>
              <a:rPr b="0" i="1" lang="ja-JP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選択ツールを用いた角、線の調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オブジェクトにマウスカーソルを近づけると形状が変化。そこに注目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角の位置の変更（選択ツール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図形の描画（□等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選択ツールを選択し、角のポイントをドラッ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直線を曲線に（選択ツール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図形の描画（□等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選択ツールを選択肢、線をドラッ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演習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顔を描き、それを元とし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笑っている顔、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怒っている顔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　に変形しなさ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600" y="1279440"/>
            <a:ext cx="917640" cy="5578560"/>
          </a:xfrm>
          <a:prstGeom prst="rect">
            <a:avLst/>
          </a:prstGeom>
          <a:solidFill>
            <a:srgbClr val="ffffcc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92120" y="919080"/>
            <a:ext cx="492120" cy="366840"/>
          </a:xfrm>
          <a:prstGeom prst="rect">
            <a:avLst/>
          </a:prstGeom>
          <a:solidFill>
            <a:srgbClr val="ffffcc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7053120" y="3446640"/>
            <a:ext cx="609840" cy="514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7097760" y="4037040"/>
            <a:ext cx="523800" cy="419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7236000" y="4530600"/>
            <a:ext cx="371160" cy="343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4" name=""/>
          <p:cNvSpPr/>
          <p:nvPr/>
        </p:nvSpPr>
        <p:spPr>
          <a:xfrm>
            <a:off x="7672320" y="3537000"/>
            <a:ext cx="78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：通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659720" y="4065480"/>
            <a:ext cx="138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：角の調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659720" y="4510080"/>
            <a:ext cx="138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：線の調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927680" y="5729400"/>
          <a:ext cx="1035000" cy="846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927680" y="5729400"/>
                    <a:ext cx="1035000" cy="84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6181560" y="5742000"/>
          <a:ext cx="2081520" cy="846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181560" y="5742000"/>
                    <a:ext cx="2081520" cy="84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図形の変更と複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55440" y="1018800"/>
            <a:ext cx="818820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ダイレクト選択ツー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ポイントの移動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（図形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例：□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を描画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ダイレクト選択ツールで線上をクリック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　→アンカーポイントの表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アンカーポイントの移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曲線の調整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（図形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例：○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を描画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ダイレクト選択ツールで線上をクリック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　→アンカーポイントとハンドルが表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ハンドルを動かして曲線の調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000" spc="-1" strike="noStrike">
                <a:solidFill>
                  <a:srgbClr val="000000"/>
                </a:solidFill>
                <a:latin typeface="Arial"/>
              </a:rPr>
              <a:t>メモ：「選択ツール」と「ダイレクト選択ツール」の違いを捉えてくだ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0520" y="1131840"/>
          <a:ext cx="901800" cy="617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131840"/>
                    <a:ext cx="90180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19080" y="1754280"/>
            <a:ext cx="917640" cy="5578560"/>
          </a:xfrm>
          <a:prstGeom prst="rect">
            <a:avLst/>
          </a:prstGeom>
          <a:solidFill>
            <a:srgbClr val="ffffcc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23840" y="1450800"/>
            <a:ext cx="324000" cy="268560"/>
          </a:xfrm>
          <a:prstGeom prst="rect">
            <a:avLst/>
          </a:prstGeom>
          <a:solidFill>
            <a:srgbClr val="ffffcc">
              <a:alpha val="50000"/>
            </a:srgbClr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図形の変更と複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55440" y="1018800"/>
            <a:ext cx="818820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由変形ツー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変形したい図形群を選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000" spc="-1" strike="noStrike">
                <a:solidFill>
                  <a:srgbClr val="000000"/>
                </a:solidFill>
                <a:latin typeface="Arial"/>
              </a:rPr>
              <a:t>（複数選択する場合は</a:t>
            </a:r>
            <a:r>
              <a:rPr b="0" i="1" lang="ja-JP" sz="2000" spc="-1" strike="noStrike">
                <a:solidFill>
                  <a:srgbClr val="000000"/>
                </a:solidFill>
                <a:latin typeface="Arial"/>
              </a:rPr>
              <a:t>shift</a:t>
            </a:r>
            <a:r>
              <a:rPr b="0" i="1" lang="ja-JP" sz="2000" spc="-1" strike="noStrike">
                <a:solidFill>
                  <a:srgbClr val="000000"/>
                </a:solidFill>
                <a:latin typeface="Arial"/>
              </a:rPr>
              <a:t>キーを押しながら連続して選択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自由変形ツールを選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オプションを選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台形化（歪曲オプション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平行に変形（回転と傾斜オプション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膨らませる（エンベローブオプション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ハンドルを移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反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修正メニューの変形→縦反転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横反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演習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下記の図形を描画し、上記４種類の変形を実際に試しなさ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20520" y="947880"/>
          <a:ext cx="860400" cy="588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947880"/>
                    <a:ext cx="860400" cy="588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19080" y="2962440"/>
            <a:ext cx="917640" cy="3063600"/>
          </a:xfrm>
          <a:prstGeom prst="rect">
            <a:avLst/>
          </a:prstGeom>
          <a:solidFill>
            <a:srgbClr val="ffffcc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71600" y="2585880"/>
            <a:ext cx="492120" cy="366840"/>
          </a:xfrm>
          <a:prstGeom prst="rect">
            <a:avLst/>
          </a:prstGeom>
          <a:solidFill>
            <a:srgbClr val="ffffcc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958680"/>
            <a:ext cx="917640" cy="1630440"/>
          </a:xfrm>
          <a:prstGeom prst="rect">
            <a:avLst/>
          </a:prstGeom>
          <a:solidFill>
            <a:srgbClr val="ffffcc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7597800" y="271440"/>
          <a:ext cx="1015920" cy="11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97800" y="271440"/>
                    <a:ext cx="1015920" cy="11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6188040" y="3189240"/>
          <a:ext cx="425520" cy="355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88040" y="3189240"/>
                    <a:ext cx="42552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6188040" y="3602160"/>
          <a:ext cx="403200" cy="395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188040" y="3602160"/>
                    <a:ext cx="40320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6167520" y="4017960"/>
          <a:ext cx="425520" cy="415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167520" y="4017960"/>
                    <a:ext cx="425520" cy="4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提出課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018800"/>
            <a:ext cx="822960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下記の演習に取り組みなさい。なお、各演習においては、まず左側の図形を描いてから、それを元に右側の図形を描きなさ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演習１　コップから水があふれそうな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演習２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-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靴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演習２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２　ペアの靴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提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ファイル形式：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GIF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形式のファイ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＠Ｌｅａｒｎにて提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入門：描画の基礎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課題 描画の基礎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507000" y="1951200"/>
          <a:ext cx="863640" cy="119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07000" y="1951200"/>
                    <a:ext cx="863640" cy="11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7770960" y="2008080"/>
          <a:ext cx="869760" cy="103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70960" y="2008080"/>
                    <a:ext cx="869760" cy="10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968640" y="3048120"/>
          <a:ext cx="986040" cy="1170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68640" y="3048120"/>
                    <a:ext cx="986040" cy="11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435640" y="3041640"/>
          <a:ext cx="712800" cy="1023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35640" y="3041640"/>
                    <a:ext cx="712800" cy="10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5345280" y="4413240"/>
          <a:ext cx="1385640" cy="1023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45280" y="4413240"/>
                    <a:ext cx="1385640" cy="10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3949560" y="4309920"/>
          <a:ext cx="712800" cy="1024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949560" y="4309920"/>
                    <a:ext cx="712800" cy="10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7421400" y="2306520"/>
            <a:ext cx="457200" cy="507960"/>
          </a:xfrm>
          <a:prstGeom prst="rightArrow">
            <a:avLst>
              <a:gd name="adj1" fmla="val 40000"/>
              <a:gd name="adj2" fmla="val 6388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67360" y="3289320"/>
            <a:ext cx="457200" cy="507960"/>
          </a:xfrm>
          <a:prstGeom prst="rightArrow">
            <a:avLst>
              <a:gd name="adj1" fmla="val 40000"/>
              <a:gd name="adj2" fmla="val 6388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915080" y="4538520"/>
            <a:ext cx="457200" cy="508320"/>
          </a:xfrm>
          <a:prstGeom prst="rightArrow">
            <a:avLst>
              <a:gd name="adj1" fmla="val 40000"/>
              <a:gd name="adj2" fmla="val 6388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12:19:04Z</dcterms:created>
  <dc:creator>atlabo</dc:creator>
  <dc:description/>
  <dc:language>en-US</dc:language>
  <cp:lastModifiedBy>atlabo</cp:lastModifiedBy>
  <dcterms:modified xsi:type="dcterms:W3CDTF">2006-08-22T06:37:19Z</dcterms:modified>
  <cp:revision>195</cp:revision>
  <dc:subject/>
  <dc:title>ドキュメントデザイン２</dc:title>
</cp:coreProperties>
</file>